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5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2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4404-E1D8-4AF6-9E74-6CD34283B38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5A3D-B0A9-48E1-AEA0-5B08AD42DE8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E05-6240-4DEA-8022-D73AC12A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B198-3E36-4CA0-BEF7-1E8D18D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9FC-6192-45BF-9870-D2BDA009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104-DF2E-4F0B-B512-83D8CB12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85E0-4CCC-4CF5-882F-069C425B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7144-E73A-4CE6-B149-A418F263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B9E0-08FB-462E-BD6A-D26777C6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D749-7489-4E20-8D46-8C2C413E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EA5B-FDF9-4B09-A507-5F38F326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98A6-A5C7-42B6-997B-3D76DAEB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84A5-98D4-454F-9987-B19A0A5C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5D6-7056-483E-B917-C29420DC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AFDE-B66A-4B44-B41F-D1CE3C26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79A6-C022-47E3-8D71-A383770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7A6-D26D-491C-A979-1A69FF7C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E7A3-EDA9-4219-B0EC-01AFC38E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C9CC-92A0-4EF4-AFF3-3C466218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DEC0-7F92-4AC1-9763-6AFBFC76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0643-F53C-4BB5-B6B8-126CF867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32AF-F528-420B-BB8B-3B869CE5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7A94-4937-49B9-8511-5D985A14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4A72-A4FD-4213-B05B-8594F65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C76-F3E6-4745-B9A4-722A391C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95F8-8DC4-4A99-9286-54F65529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A5EB-F805-4CB4-A14B-24DDDB92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FE13-28B1-4BB8-8255-CF628465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12CC-E1E4-4501-BBCC-F90D3F93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5464-78FD-4498-B404-1736E18D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71C4-20E3-40C0-B156-61C6D935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C9FE-6BD4-43E7-8EBD-8D317D47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A625-A3B2-4BDD-AE8F-6F1B30CD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88C8-3599-4C61-BF6E-C90F6AB6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5C5D-26DE-46DA-96F8-4A8327F1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A80-31C6-4447-96E0-2AE8449D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99F8-4D88-4EE2-A560-B9817123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E26F-56FC-4753-83FC-B64550E3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F6204-FEE4-416F-971C-B3A53976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9B4B-65FB-4827-823C-014EB390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8366-D9F9-4F9A-B485-75DC6F59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3BD2-9524-4EB1-9000-12DAAB41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B247-A7A2-474E-A6FF-C26ADBF1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D7277-E1DC-41CC-8029-4F6A46F2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766E-B52C-49CB-BCA8-E0BC1DE8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01FDB-ED04-4858-B1AA-A6513C86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4D8-BA6A-4024-A2E3-5ADAF82A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CAB06-80A7-472C-A97E-48D1E56A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A6399-EE06-4B39-AD45-47C2261E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334FE-1FA3-4B1A-8FF9-B49BE151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C8719-71CD-4C5E-B715-CE4958ED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23E3A-899D-4304-9FD7-D070DF27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BABC2-DB7A-479D-8298-9017E25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87D74-3F28-4C7D-B455-DFE368FC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5E0E4-63B6-4307-86CB-9E80E01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1DC30-A2BC-4649-B07A-D2899820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55D20-2C62-4ED7-BFC2-907F09E3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EE4D-54AD-4074-937D-9A90C5AA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9F1C1-B02A-41FE-8984-516FB384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4D7EF-5F9D-425B-8504-97044C74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8992-3923-4B84-A28A-2E6A51AC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212ED-B2B0-4584-8426-30B98F30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3476-B66C-4E2D-BB2B-5B49AE0F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3D430-B04D-4B4A-AEF4-D1F38308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0E3A7-0043-4AD2-B68C-0D154C53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601A5-B1DC-4BEE-B07C-2ECB7C05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C818-2A30-4BBC-89F6-2CCC055E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8E6B-2545-4FD1-ABD4-96970F48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E47-A26D-4203-B953-B0E87532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CED15-08EA-4BC3-8640-214DADBD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EFFF-5843-4AE7-81E9-EB82E030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8B06B-16F4-40A8-8DDE-1236BA5C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6C2-6B0B-4E9D-88EE-56F33604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B77-C837-498F-B45E-BF5549AB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6889-06D6-4696-BA12-D1678154E980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51F7-BF9F-4C76-857D-C70E81BEC032}" type="slidenum"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Prostokąt 1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Prostokąt 1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Łącznik prosty 4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D08-BC59-4F73-BA8F-4B1AEAAA80B7}" type="slidenum"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F600-490B-40AE-A4AB-A83E6C1DEDC2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rostokąt 1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rostokąt 4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99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0BB7-95A8-4CF8-BB84-50AF4E84E9E6}" type="slidenum">
              <a:rPr b="0" lang="pl-PL" sz="1100" spc="-1" strike="noStrike">
                <a:solidFill>
                  <a:srgbClr val="00ff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18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9F53-65F3-455A-84CE-069914241A04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ole tekstowe 3"/>
          <p:cNvSpPr/>
          <p:nvPr/>
        </p:nvSpPr>
        <p:spPr>
          <a:xfrm>
            <a:off x="352440" y="3390840"/>
            <a:ext cx="50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udia podyplom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rządzanie jakością wg norm ISO 9000” ed. 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ole tekstowe 4"/>
          <p:cNvSpPr/>
          <p:nvPr/>
        </p:nvSpPr>
        <p:spPr>
          <a:xfrm>
            <a:off x="352440" y="4170240"/>
            <a:ext cx="559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mówienie i analiza norm serii ISO 14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ole tekstowe 5"/>
          <p:cNvSpPr/>
          <p:nvPr/>
        </p:nvSpPr>
        <p:spPr>
          <a:xfrm>
            <a:off x="352440" y="490212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ole tekstowe 6"/>
          <p:cNvSpPr/>
          <p:nvPr/>
        </p:nvSpPr>
        <p:spPr>
          <a:xfrm>
            <a:off x="352440" y="517860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ata: 17.06.2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30200" y="14616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leży określić czynniki zewnętrzne i wewnętrzne istotne dla celu jej działania i takie, które wpływają na zdolność organizacji do osiągniecia zamierzonych wyników jej systemu zarządzania środowiskowego. Czynniki takie powinny obejmować warunki środowiskowe będące pod wpływem organizacji lub mogące mieć wpływ na organizacj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3425-D120-4AFD-98B7-6B5E40796FE9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arunki środowiskow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wiązane z klimatem, jakością powietrza, jakością wody, wykorzystaniem powierzchni ziemi, istniejącym zanieczyszczeniem, dostępnością zasobów naturalnych i bioróżnorodnością, które mogą wpływać na cel organizacji lub być pod wpływem jej aspektów środowisk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Zewnętrzne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warunkowania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ulturowe, społeczne, polityczne, prawne, regulacyjne, finansowe, technologiczne, ekonomiczne, przyrodnicze i związane z konkurencyjnością na poziomie międzynarodowym, krajowym, regionalnym czy lokalnym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ewnętrzne uwarunkowa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ji, takie jak specyfika działań, wyrobów i usług organizacji; strategiczny kierunek rozwoju, kultura i zasoby (tj. ludzie, wiedza, procesy, systemy)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AAA9-AD20-4FF1-8A45-16AEFF20F47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90080" cy="11397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określi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rony zainteresowane istotne dla systemu zarządzania środowiskowe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stotne potrzeby i oczekiwania (wymagania) stron zainteresowan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tóre z tych potrzeb i oczekiwań stają się jej zobowiązaniami dotyczącymi zgodnoś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8CBB-AFE0-4A79-8B6E-3234B0A570A8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931160" cy="6998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78920" y="102564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określić granice i możliwości zastosowania systemu ZŚ w celu ustalenia jego zakr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określaniu zakresu należy rozważy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ynniki wewnętrzne i zewnętrzne dot. konteks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obowiązania dot. zgodności (stron zainteresowan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cc"/>
                </a:solidFill>
                <a:latin typeface="Arial"/>
              </a:rPr>
              <a:t>swoje jednostki organizacyjne, funkcje i granice fizy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asne działania, wyroby i usłu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łasne uprawnienia i możliwości sprawowania nadzoru i wywierania wpływ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res powinien być utrzymywany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jako udokumentowana informacj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być dostępny dla stron zainteresowa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Segoe UI"/>
              </a:rPr>
              <a:t>Zakres systemu może obejmować całą organizację, określone funkcje organizacji, specyficzne i określone części organizacji, jedną lub więcej funkcji w grupie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18B8-6D03-460F-8237-555EE5EF9AD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023b0"/>
                </a:solidFill>
                <a:latin typeface="Arial"/>
              </a:rPr>
              <a:t>Przywódz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ymbol zastępczy daty 3"/>
          <p:cNvSpPr/>
          <p:nvPr/>
        </p:nvSpPr>
        <p:spPr>
          <a:xfrm>
            <a:off x="457200" y="602928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C7AE-BE61-4963-B573-A652A4CED7AE}" type="datetime">
              <a:rPr b="0" lang="pl-PL" sz="1200" spc="-1" strike="noStrike">
                <a:solidFill>
                  <a:srgbClr val="00ff00"/>
                </a:solidFill>
                <a:latin typeface="Arial"/>
              </a:rPr>
              <a:t>28.07.26</a:t>
            </a:fld>
            <a:r>
              <a:rPr b="0" lang="pl-PL" sz="1200" spc="-1" strike="noStrike">
                <a:solidFill>
                  <a:srgbClr val="00ff00"/>
                </a:solidFill>
                <a:latin typeface="Arial"/>
              </a:rPr>
              <a:t> </a:t>
            </a:r>
            <a:fld id="{4E5503A1-9B36-471F-812C-020716EBA2A7}" type="datetime12">
              <a:rPr b="0" lang="pl-PL" sz="1200" spc="-1" strike="noStrike">
                <a:solidFill>
                  <a:srgbClr val="00ff00"/>
                </a:solidFill>
                <a:latin typeface="Arial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ymbol zastępczy numeru slajdu 5"/>
          <p:cNvSpPr/>
          <p:nvPr/>
        </p:nvSpPr>
        <p:spPr>
          <a:xfrm>
            <a:off x="6553080" y="602928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C121-3840-40AC-8053-435288B5B8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407880" y="476280"/>
            <a:ext cx="8583840" cy="1054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50560" y="1633680"/>
            <a:ext cx="8569080" cy="45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wyższe kierownictwo powinno wykazać swoje  przywództwo i zaangażowanie poprzez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jęcie odpowiedzialności za skuteczność systemu zarządzania środowiski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, że polityka i cele są ustanowione i są zgodne z kierunkiem strategicznym i kontekstem organ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integracji wymagań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stemu z działaniami proces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znesowych organizacji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6148440" y="4835520"/>
            <a:ext cx="256536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ytuł 1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229600" cy="6523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252000" y="1170000"/>
            <a:ext cx="889164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 zasobów do systemu zarządza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unikowanie znaczenia skutecznego zarządzania środowiskowego i zgodności z wymaganiami system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e, że system zarządzania osiąga zamierzone wynik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ierowanie i wspieranie osób, które mają wpływ na skuteczność systemu zarządzania środowisk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mowanie ciągłego doskonale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ieranie innych ról zarządczych, w celu wykazania przywództwa w obszarach za które odpowiadaj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wyższe kierownictwo powinno określić politykę środowiskową organizacji tak, ab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była odpowiednia do celu istnienia organizacji i kontekstu, w tym charakteru i skali wpływów na środowisko jej działań, wyrobów i usług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tworzyła ramy do ustanowienia celów środowiskowych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zawierała zobowiązanie do ochrony środowiska, w tym zapobiegania zanieczyszczeniom oraz specyficzne zobowiązania wynikające z kontekstu;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zawierała zobowiązanie do spełnienia zobowiązań dotyczących zgodności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  <a:p>
            <a:pPr lvl="1" marL="765000" indent="-2854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zawierała zobowiązanie do ciągłego doskonalenia systemu w celu poprawy środowiskowych efektów działalności.</a:t>
            </a:r>
            <a:endParaRPr b="0" lang="en-US" sz="2300" spc="-1" strike="noStrike">
              <a:solidFill>
                <a:srgbClr val="6c6c6c"/>
              </a:solidFill>
              <a:latin typeface="Arial"/>
            </a:endParaRPr>
          </a:p>
        </p:txBody>
      </p:sp>
      <p:sp>
        <p:nvSpPr>
          <p:cNvPr id="339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30C8-44BA-40D1-B75B-EE4929EC3ABF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250920" y="119700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Polityka środowiskowa powin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być utrzymywana w postaci </a:t>
            </a:r>
            <a:r>
              <a:rPr b="0" lang="pl-PL" sz="2300" spc="-1" strike="noStrike">
                <a:solidFill>
                  <a:srgbClr val="ff0000"/>
                </a:solidFill>
                <a:latin typeface="Arial"/>
              </a:rPr>
              <a:t>udokumentowanej informacji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być komunikowana w ramach organizacji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być dostępna dla zainteresowanych str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2D0C-71FC-430B-B814-D7C31532C9DE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609200"/>
            <a:ext cx="8291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ajwyższe kierownictwo powinno zapewnić, aby odpowiedzialności i uprawnienia osób pełniących istotne role zostały przydzielone i zakomunikowane w organiz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dpowiedzialności i uprawnienia powinny być przydzielone w zakres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pewnienia zgodności systemu ZŚ z wymaganiami niniejszej no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edstawianie najwyższemu kierownictwu sprawozdań dotyczących efektów działania systemu, w tym środowiskowych efektów działalnoś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A60C-CFF2-41F6-AE6D-718AFF2A3908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kr_04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2" descr=""/>
          <p:cNvPicPr/>
          <p:nvPr/>
        </p:nvPicPr>
        <p:blipFill>
          <a:blip r:embed="rId2"/>
          <a:stretch/>
        </p:blipFill>
        <p:spPr>
          <a:xfrm>
            <a:off x="2700360" y="3645000"/>
            <a:ext cx="5773680" cy="23050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7880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D23A-C03D-4B25-8894-F7E0551F05DA}" type="slidenum"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023b0"/>
                </a:solidFill>
                <a:latin typeface="Arial"/>
              </a:rPr>
              <a:t>Planow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2160" y="1585800"/>
            <a:ext cx="83674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lanując system zarzadzania środowiskowego organizacja powinna rozważy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ntekst organiz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magania stron zainteresowan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kres systemu Z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określić ryzyka i szanse związane z aspektami środowiskowymi, zobowiązaniami dot. zgodności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 ustalonym zakresie systemu zarządzania określić potencjalne sytuacje awaryjne, w tym te, które mogą mieć wpływ na środowisk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5C6F-25A6-4254-957F-5510DF7B3005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6840" y="1568520"/>
            <a:ext cx="84344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 planowaniu systemu zarządzania środowiskiem, organizacja powinna uwzględni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kwestie wewnętrzne i zewnętrzne, wymaganiach dot. zainteresowanych stron oraz określić ryzyka i możliwości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które powinna odnieść 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enia, że system zarządzania środowiskiem może osiągnąć zamierzone wynik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ększenia pożądanych skutkó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obiegania lub zmniejszenia, niepożądanych skutkó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iągania ciągłego doskonal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Aspekt środowiskowy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 element działania organizacji lub jej wyrobów lub usług, który ma lub może mieć wpływ na środowiskio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000000"/>
                </a:solidFill>
                <a:uFillTx/>
                <a:latin typeface="Arial"/>
              </a:rPr>
              <a:t>Znaczący aspekt to ten, który może mieć znaczący wpływ na środowi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768B-00DB-4D83-8C28-EC2B75BA2DA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1116000" y="334800"/>
            <a:ext cx="7338960" cy="933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394920" y="1196640"/>
            <a:ext cx="792180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określić aspekty środowiskowe jej działań, wyrobów i usług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które może nadzorować i na które może mieć wpływ, oraz ich związane oddziaływania na środowisko, z uwzględnieniem perspektywy cyklu życia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określania aspektów środowiskowych, organizacja powinna brać pod uwag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miany, w tym planowane lub nowe projekty oraz nowe lub zmodyfikowane działania, wyroby i usług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unki nietypowe i racjonalnie przewidywane sytuacje awaryj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określić te aspekty, które mają lub mogą mieć istotny wpływ na środowisko, tj.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istotne aspekty środowiskow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poprzez stosowanie ustanowionych kryteri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D364-09A8-438B-AC46-091FB5EEE0CD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6840" y="1609200"/>
            <a:ext cx="80024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utrzymywać </a:t>
            </a: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udokumentowane informacj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dotyczą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spektów środowiskowych i związanych z nimi wpływów na środowi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ryteriów użytych do określenia znaczących aspektów środowiskow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naczących aspektów środowiskow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naczące aspekty mogą skutkować zaistnieniem ryzyk i szans związanych z wpływami na środowisko, zarówno niekorzystnymi jak korzystnymi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CAA0-B631-4E7A-BA25-1ADE4F6840F8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609200"/>
            <a:ext cx="77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kreślając aspekty środowiskowe, organizacja może wziąć pod uwagę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isje do powietrz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nieczyszczenia wprowadzane do wó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nieczyszczenia wprowadzane do zie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użycie surowców i zasobów naturalnych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użycie energi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itowaną energię, np. ciepło, promieniowanie, drgania (hałas) i światł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twarzanie odpadów i/lub produktów ubocz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ajęcie przestrze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C5F7-FF59-4E16-8947-6EC0A60B3959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ytuł 1" descr=""/>
          <p:cNvPicPr/>
          <p:nvPr/>
        </p:nvPicPr>
        <p:blipFill>
          <a:blip r:embed="rId1"/>
          <a:stretch/>
        </p:blipFill>
        <p:spPr>
          <a:xfrm>
            <a:off x="176040" y="324000"/>
            <a:ext cx="8718840" cy="1139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178920" y="1609200"/>
            <a:ext cx="799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ić zobowiązania dot. zgodności związane z jej aspektami środowiskowymi i mieć do nich dostę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ić jak te zobowiązania stosują się do organ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względnić te zobowiązania dot. zgodności przy ustanawianiu, wdrażaniu, utrzymywaniu i doskonaleniu systemu Z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utrzym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udokumentowane informacje dot. zobowiązań dot. zgod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4FA2-2815-45CA-A345-FEA2CAA8A0DE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6840" y="1609200"/>
            <a:ext cx="8147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owiązujące wymagania prawne związane z aspektami środowiskowymi organizacji mogą obejmować, jeśli ma to zastosowani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magania organów rządowych lub innych właściwych organó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zepisy ustawowe i wykonawcze przyjmowane na poziomie międzynarodowym, krajowym i lokalny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magania określone w pozwoleniach, licencjach lub innych formach zezwole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kazy, zasady lub wytyczne wydane przez organy administracj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yroki sądów (w tym sądów administracyjn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486F-726B-4501-B86C-EA63A5AB668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250920" y="1463760"/>
            <a:ext cx="842472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bowiązania dotyczące zgodności mogą także obejmować wymagania stron zainteresowanych dot. aspektów środowiskowych organizacji, które powinna lub chce przyjąć. Mogą one obejmować, jeśli ma to zastosowani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ozumienia z grupami społecznymi lub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ozumienia z władzami publicznymi lub klienta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yjne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browolne zasady lub kodeksy postępowania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browolne systemy etykietowania lub zobowiązania środowiskow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owiązki wynikające z uzgodnień kontraktowych z organizacj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łaściwe normy zakładowe lub branżow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B2F-D7CC-45D0-8688-50814E9D1A2D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1450800" y="841320"/>
            <a:ext cx="7388280" cy="1139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ystemy zarządzania środowiskowego. Wymagania i wytyczne do stosowan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6547-DE05-4F28-A3FC-803D87D67271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8031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250920" y="1125360"/>
            <a:ext cx="813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ja powinna zaplanowa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ziałania odnoszące się do jej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naczących aspektów środowiskowych; 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obowiązań dotyczących zgodności;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identyfikowanych ryzyk i szans; 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sób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integrowania działań  i wdrożenia ich do procesów systemu zarządzania środowiskowego lub innych procesów biznesowych; 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ceny skuteczności tych działań.</a:t>
            </a:r>
            <a:endParaRPr b="0" lang="en-US" sz="2000" spc="-1" strike="noStrike">
              <a:solidFill>
                <a:srgbClr val="6c6c6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ując te działania, organizacja powinna rozważyć swoje opcje technologiczne oraz wymagania finansowe, operacyjne i biznesowe</a:t>
            </a:r>
            <a:r>
              <a:rPr b="0" lang="pl-PL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B49-B612-45E1-9C24-19B6A5E5C14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bf00"/>
                </a:solidFill>
                <a:latin typeface="Arial"/>
              </a:rPr>
              <a:t>Cel środowiskowy</a:t>
            </a:r>
            <a:r>
              <a:rPr b="0" lang="pl-PL" sz="3200" spc="-1" strike="noStrike">
                <a:solidFill>
                  <a:srgbClr val="00bf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ogólny cel środowiskowy, spójny z polityką środowiskową, który organizacja ustala sobie do osiągnię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bf00"/>
                </a:solidFill>
                <a:latin typeface="Arial"/>
              </a:rPr>
              <a:t>Zadanie środowiskowe</a:t>
            </a:r>
            <a:r>
              <a:rPr b="0" lang="pl-PL" sz="3200" spc="-1" strike="noStrike">
                <a:solidFill>
                  <a:srgbClr val="00bf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szczegółowe wymaganie dotyczące efektów działalności, mające zastosowanie do organizacji lub jej części, wynikające z celów środowiskowych, które należy określić oraz zrealizować, aby osiągnąć te c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244D-1444-49D1-BB95-8CCA8030B566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324000" y="334800"/>
            <a:ext cx="8491320" cy="8607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323640" y="1197000"/>
            <a:ext cx="8458200" cy="53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ustanowić i utrzymywać cele i środowiskowe </a:t>
            </a: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w postaci udokumentowanych informacji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la odpowiednich funkcji i szczebli, uwzględniając znaczące aspekty środowiskowe organizacji i związane z nimi zobowiązania dot. zgodności oraz biorąc pod uwagę ryzyka i szan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ele środowiskowe powinny by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pójne z polityką środowiskową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ierzalne (jeśli jest to wykonal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onitorow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komunikow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ktualizowane, jeśli jest to odpowiedn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16E7-1D39-4CCE-8774-A32F9DCE92A3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17000" cy="1176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y planowaniu celów dotyczące środowiska, organizacja powinna określi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 należy zrobi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akie zasoby będą koniecz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to będzie odpowiedzialny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iedy działania zostaną zakończ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 jaki sposób będą oceniane wynik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leży rozważyć, w jaki sposób działania prowadzące do osiągania celów środowiskowych mogą być zintegrowane z procesami biznesowymi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023b0"/>
                </a:solidFill>
                <a:latin typeface="Arial"/>
              </a:rPr>
              <a:t>Wspar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73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108000" y="764640"/>
            <a:ext cx="90360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określić niezbędne kompetencje osób wykonujących pod jej nadzorem pracę, mające wpływ na jej środowiskowe efekty działalności oraz jej zdolność do spełnienia zobowiązań dot. zgodności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zapewniać, aby te osoby były kompetentne, dzięki odpowiedniemu wykształcenia, szkoleniu lub doświadczeniu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ff0000"/>
                </a:solidFill>
                <a:latin typeface="Arial"/>
                <a:ea typeface="Arial"/>
              </a:rPr>
              <a:t>Określić potrzeby szkoleniowe związane z jej aspektami środowiskowymi i systemem Z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tam, gdzie to ma zastosowanie podjąć działania, w celu uzyskania niezbędnych kompetencji i ocenić skuteczność podjętych działań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przechowywać odpowiednie </a:t>
            </a:r>
            <a:r>
              <a:rPr b="0" lang="pl-PL" sz="2500" spc="-1" strike="noStrike">
                <a:solidFill>
                  <a:srgbClr val="ff0000"/>
                </a:solidFill>
                <a:latin typeface="Arial"/>
                <a:ea typeface="Arial"/>
              </a:rPr>
              <a:t>udokumentowane informacje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, jako dowód kompetencj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57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0720" y="980640"/>
            <a:ext cx="84362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zapewnić, aby osoby wykonujące pracę pod nadzorem organizacji powinny być świado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polityki środowiskowej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znaczących aspektów środowiskowych i związanych z nimi rzeczywistych lub potencjalnych wpływów na środowisko związane z ich prac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ich wkładu w skuteczność systemu zarządzania środowiskowego, w tym korzyści z poprawy środowiskowych efektów działalnośc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onsekwencji niezgodności z wymaganiami systemu zarządzania środowiskowego, w tym niespełnienia zobowiązań dot. zgod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179280" y="1609200"/>
            <a:ext cx="8064720" cy="48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określić, wdrożyć i utrzymywać proces potrzebny do wewnętrznej i zewnętrznej komunikacji dla systemu zarządzania środowiskowego, w ty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co ma być komunikowa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iedy to ma być komunikowa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z kim należy się komunikować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jak należy się komunikowa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cja powinna,  jeśli jest to odpowiednie, przechow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ako dowód prowadzenia komuni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6840" y="1609200"/>
            <a:ext cx="7643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 ramach komunikacji wewnętrznej 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ganizacja powin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zekazywać między różnymi szczeblami i funkcjami wewnątrz organizacji,  jeśli jest to odpowiednie, informacje istotne dla systemu zarządzania środowiskowego w tym dotyczące zmian w systemie zarządzania środowiskoweg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pewnić, aby proces komunikacji pozwalał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ażdej osobie pracującej pod nadzorem organizacji uczestniczyć w ciągłym doskonaleni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 ramach komunikacji zewnętrznej 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ganizacja powinna: przekazywać na zewnątrz informacje dotyczące jej systemu zarządzania środowiskowego, jak ustanowiono w procesie (procesach) komunikacji i zgodnie z zobowiązaniami dotyczącymi zgod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E76C-4678-49A9-8B2E-605BAE8512F6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023b0"/>
                </a:solidFill>
                <a:latin typeface="Arial"/>
              </a:rPr>
              <a:t>Udokumentowane Informac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f00"/>
                </a:solidFill>
                <a:latin typeface="Arial"/>
              </a:rPr>
              <a:t>Środowisko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– otoczenie, w którym działa organizacja, z uwzględnieniem powietrza, wody, ziemi, zasobów naturalnych, flory, fauny, ludzi i ich wzajemnych zależ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8951-7272-4D55-B3EC-6BCF91544F0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ytuł 1" descr=""/>
          <p:cNvPicPr/>
          <p:nvPr/>
        </p:nvPicPr>
        <p:blipFill>
          <a:blip r:embed="rId1"/>
          <a:stretch/>
        </p:blipFill>
        <p:spPr>
          <a:xfrm>
            <a:off x="609480" y="530280"/>
            <a:ext cx="6699240" cy="14018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394920" y="1557000"/>
            <a:ext cx="77058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cc"/>
                </a:solidFill>
                <a:latin typeface="Arial"/>
              </a:rPr>
              <a:t>Informacja, która powinna być nadzorowana i utrzymywana przez organizację oraz nośnik, na jakim jest zaw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Aktualna definicja określająca dokument i zap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dokumentowana informacja może być w dowolnej formie i na dowolnym rodzaju nośnika i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może pochodzić z dowolnego źród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dokumentowane informacje mogą odnosić się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stemu zarządzania łącznie ze związanymi proces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formacji stworzonej pod kątem działalności organizacji (dokumentac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wodów osiągania wyników (zapis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C939-CDCF-4EB9-BE5B-592F0D3FA8C6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ytuł 1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229600" cy="720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501920"/>
            <a:ext cx="843444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ystem zarządzania środowiskowego organizacji powinien zawiera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kumentowane informacje wymagane postanowieniami niniejszej normy międzynarodowej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kumentowane informacje określone przez organizację jako niezbędne, dla skuteczności systemu zarządzania środowiski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WAGA Zakres udokumentowanej informacji w systemie zarządzania środowiskowego, może być różny dla różnych organiz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pracowując i aktualizując udokumentowane informacje organizacja powinna zapewni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dentyfikacje i opis (np. tytuł, datę, autora, lub numer referencyjny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format (np. język, wersję oprogramowania, grafikę) oraz nośnik (np. papier, wersja elektroniczna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egląd oraz zatwierdzenie stosowności i adekwat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17520" y="1568520"/>
            <a:ext cx="864216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kumentowane informacje wymagane przez system zarządzania środowiskowego i niniejszą normę międzynarodową, powinny być nadzorowane w celu zapewnien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ostępności i przydatności do użytku, wtedy gdy jest to koniecz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dpowiedniego zabezpieczenia (np. przed utratą poufności, niewłaściwego użytkowania lub utracie integralności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7413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la nadzorowania udokumentowanych informacji, organizacja powinna podejmować w stosownych przypadkach następujące czynnośc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ystrybucję, dostęp, pobieranie i wykorzystywani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echowywanie i zabezpieczanie, w tym zachowania czytelnośc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ontrolę zmian (np. kontrolę wersji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zechowywanie i likwidację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52000" y="1434600"/>
            <a:ext cx="8707320" cy="48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okumentowane informacje pochodzące spoza organizacji, niezbędne do planowania i funkcjonowania systemu zarządzania środowiskowego, powinny być zidentyfikowane, odpowiednio oznaczone i nadzorow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WAGA Dostęp może oznaczać decyzję, dotyczącą zezwolenia tylko na wgląd do udokumentowanych informacji lub zezwolenia i uprawnienia do wglądu oraz zmiany udokumentowanych inform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371600" y="231840"/>
            <a:ext cx="7772400" cy="834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250920" y="1066320"/>
            <a:ext cx="8066160" cy="545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rganizacja powinna ustanowić, wdrożyć, nadzorować i utrzymywać procesy niezbędne do spełniania wymagań systemu zarządzania środowiskowego oraz do wdrożenia działań dot. celów i aspektów, poprzez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tanowienie kryteriów operacyjnych dla procesów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drażanie nadzorowania procesów, zgodnie z kryteriami operacyjnym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rganizacja powinna nadzorować zaplanowane zmiany i poddawać przeglądowi skutki wprowadzenia niezamierzonych zmian, podejmując niezbędne działania w celu łagodzenia niekorzystnych skutków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rganizacja powinna zapewnić, aby </a:t>
            </a:r>
            <a:r>
              <a:rPr b="0" lang="pl-PL" sz="2200" spc="-1" strike="noStrike">
                <a:solidFill>
                  <a:srgbClr val="ff0000"/>
                </a:solidFill>
                <a:latin typeface="Arial"/>
              </a:rPr>
              <a:t>procesy zlecane na zewnątrz były nadzorowane lub pozostawały pod jej wpływem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. Rodzaj i zakres nadzoru lub wpływu zastosowany do tego procesu powinien być zdefiniowany w ramach systemu zarządzania środowiskow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C028-8BBF-496E-8E35-C1C2C32169E8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944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50560" y="1412640"/>
            <a:ext cx="777708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odnie z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perspektywą cyklu życia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ganizacja powin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stanowić odpowiednie środki nadzoru, w celu zapewnienia uwzględniania swoich wymagań środowiskowych w procesach projektowania i opracowywania produktu lub usługi, z uwzględnieniem każdego etapu cyklu ży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kreślić swoje wymagania środowiskowe dotyczące wytwarzania wyrobów i usłu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kazywać istotne wymagania środowiskowe stronom zewnętrznym, w tym podwykonawc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ważyć potrzebę przedstawienia informacji o potencjalnych znaczących wpływach na środowisko związane z transportem lub dostawą, użytkowaniem, przetwarzaniem po zakończeniu użytkowania i końcowym usunięciem jej wyrobów i usł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ganizacja powinna utrzymywać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udokumentowane informacj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zakresie niezbędnym do upewnienia się że procesy zostały wykonane jak zaplanow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F287-A867-447E-8AE5-73CEA85D5E80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534520" cy="8902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179280" y="1125360"/>
            <a:ext cx="806472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leży ustanowić, wdrożyć i utrzymywać procesy niezbędne do przygotowania i reagowania na potencjalne sytuacje awar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izacja powin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rzygotować sposób reagowa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przez zaplanowanie działań zapobiegawczych lub łagodzących niekorzystne oddziaływania na środowisko przez sytuacje awaryj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reagowa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na rzeczywiste sytuacje awaryj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ejmować działania w celu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zapobiegania lub łagodzenia skutk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i awaryjnych, odpowiednie do powagi danej sytuacji oraz potencjalnego oddziaływania na środowisk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sowo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oddawać testom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e działania związane z reagowaniem, jeśli jest to możli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sowo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oddawać przeglądow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rewidować proces(y) i zaplanowane działania związane z reagowaniem, w szczególności po wystąpieniu sytuacji awaryjnej lub po próba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starczać odpowiednie informacje i zapewniać szkolenia związane z gotowością i reagowaniem na sytuacje awaryjne właściwym zainteresowanym stronom, w tym osobom wykonującym pracę pod nadzorem organiza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ganizacja powinna utrzymywać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udokumentowaną informację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zakresie niezbędnym do upewnienia się, że procesy zostały przeprowadzone jak zaplanowano</a:t>
            </a:r>
            <a:r>
              <a:rPr b="0" lang="pl-PL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3C4E-F6E7-4312-B313-DC58D9441F3F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ytuł 1" descr=""/>
          <p:cNvPicPr/>
          <p:nvPr/>
        </p:nvPicPr>
        <p:blipFill>
          <a:blip r:embed="rId1"/>
          <a:stretch/>
        </p:blipFill>
        <p:spPr>
          <a:xfrm>
            <a:off x="109440" y="324000"/>
            <a:ext cx="8710560" cy="5839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107640" y="907920"/>
            <a:ext cx="878508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leca się, aby planując proces(-y) gotowości i reagowania na sytuacje awaryjne, organizacja wzięła pod uwag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jbardziej odpowiednią/e metodę/y reagowania na sytuacje awaryj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y komunikacji wewnętrznej i zewnętr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ziałanie/a niezbędne do zapobiegania wystąpieniu wpływów na środowisko lub do złagodzenia tych wpływ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osób (sposoby) reagowania oraz działanie (działania) o charakterze łagodzącym skutki, które należy podjąć w przypadku wystąpienia różnego typu sytuacji awaryj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rzebę prowadzenia oceny przebiegu działań po wystąpieniu sytuacji awaryjnej w celu określenia i wdrożenia działań korygując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kresowe testowanie działań zaplanowanych na wypadek sytuacji awaryjn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zkolenia pracowników odpowiedzialnych za reagowanie na sytuacje awaryj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ykaz osób i służb wraz z danymi kontaktowymi (np. straż pożarna, służby usuwające wycieki);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gi ewakuacyjne i punkty zbiórki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żliwości pomocy wzajemnej ze strony organizacji z sąsiedz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72A5-2E8B-4279-8B29-03A1FCBCE57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9200"/>
            <a:ext cx="7715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iniejsza norma międzynarodowa stosuje następujące formy słow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winien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, „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należy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znacza wymagani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ale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ę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znacza zaleceni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puszcza się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znacza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opuszczeni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może”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oznacza możliwość lub zdolność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formacja oznaczona jako "</a:t>
            </a: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UWAGA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" ma na celu ułatwienie zrozumienia lub stosowania  nor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D81-2918-432A-BD76-54AEE58BC04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1023b0"/>
                </a:solidFill>
                <a:latin typeface="Arial"/>
              </a:rPr>
              <a:t>Ocena efektów działalnośc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300" spc="-1" strike="noStrike">
                <a:solidFill>
                  <a:srgbClr val="000000"/>
                </a:solidFill>
                <a:latin typeface="Arial"/>
              </a:rPr>
              <a:t>Monitorowanie, pomiary, analiza i ocen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ytuł 1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7236000" cy="1139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252000" y="1201320"/>
            <a:ext cx="870732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określić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co powinno być monitorowane i mierz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metody monitorowania, pomiaru, analizy i oceny, aby zapewnić prawidłowe wynik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ryteria względem których organizacja będzie oceniać środowiskowe efekty swojej działalności oraz odpowiednie wskaźn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iedy należy przeprowadzić monitorowanie i pomiary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kiedy wyniki monitorowania i pomiarów powinny być analizowane i oceni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zachować odpowiednie </a:t>
            </a:r>
            <a:r>
              <a:rPr b="0" lang="pl-PL" sz="2600" spc="-1" strike="noStrike" u="sng">
                <a:solidFill>
                  <a:srgbClr val="f50b6f"/>
                </a:solidFill>
                <a:uFillTx/>
                <a:latin typeface="Arial"/>
                <a:ea typeface="Arial"/>
              </a:rPr>
              <a:t>udokumentowane informacje 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jako dowód prowadzenia monitorowania, pomiarów, analizy i oceny wynikó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09200"/>
            <a:ext cx="8291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ustanowić, wdrożyć i utrzymywać procesy potrzebne do oceny spełnienia zobowiązań dot. zgodnośc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kreślić częstotliwość z jaką będzie oceni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ceniać zgodność i w razie potrzeby podejmować dział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trzymywać znajomość i zrozumienie swojego stanu zgod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rganizacja powinna przechowywać </a:t>
            </a:r>
            <a:r>
              <a:rPr b="0" lang="pl-PL" sz="2600" spc="-1" strike="noStrike">
                <a:solidFill>
                  <a:srgbClr val="ff0000"/>
                </a:solidFill>
                <a:latin typeface="Arial"/>
              </a:rPr>
              <a:t>udokumentowane informacje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jako dowód wyników oceny zgod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787C-1CBD-4C77-812C-E0E42D8A2B77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przeprowadzać audity wewnętrzne w zaplanowanych odstępach czasu w celu określenia, czy system zarządzania środowiskoweg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jest zgodny 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Arial"/>
                <a:ea typeface="Arial"/>
              </a:rPr>
              <a:t>własnymi wymaganiami organizacji dla systemu zarządzania środowiskowego;</a:t>
            </a:r>
            <a:endParaRPr b="0" lang="en-US" sz="2400" spc="-1" strike="noStrike">
              <a:solidFill>
                <a:srgbClr val="6c6c6c"/>
              </a:solidFill>
              <a:latin typeface="Arial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Arial"/>
                <a:ea typeface="Arial"/>
              </a:rPr>
              <a:t>wymaganiami niniejszej normy międzynarodowej ,</a:t>
            </a:r>
            <a:endParaRPr b="0" lang="en-US" sz="2400" spc="-1" strike="noStrike">
              <a:solidFill>
                <a:srgbClr val="6c6c6c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jest skutecznie wdrożony i utrzymywan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ytuł 1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229600" cy="7506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252360" y="1234800"/>
            <a:ext cx="86392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ustanowić, wdrożyć i utrzymywać program audytów wewnętrznych, w tym określić częstość, metody, odpowiedzialności, wymagania dot. planowania i raportowania jej audytów wewnętrz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kreślić kryteria i zakres dla każdego audi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bierać auditorów i prowadzić audity tak aby zapewnić obiektywność i bezstronność procesu audi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pewnić, że wyniki auditów są przekazywane do właściwego kierownictw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przechow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  <a:ea typeface="Arial"/>
              </a:rPr>
              <a:t>udokumentowane informacje</a:t>
            </a:r>
            <a:r>
              <a:rPr b="0" lang="pl-PL" sz="2400" spc="-1" strike="noStrike" u="sng">
                <a:solidFill>
                  <a:srgbClr val="f50b6f"/>
                </a:solidFill>
                <a:uFillTx/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jako dowód realizacji programu auditów i wyników audit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ytuł 1" descr=""/>
          <p:cNvPicPr/>
          <p:nvPr/>
        </p:nvPicPr>
        <p:blipFill>
          <a:blip r:embed="rId1"/>
          <a:stretch/>
        </p:blipFill>
        <p:spPr>
          <a:xfrm>
            <a:off x="523800" y="189000"/>
            <a:ext cx="8229600" cy="6825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250560" y="836280"/>
            <a:ext cx="8785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Najwyższe kierownictwo powinno przeprowadzać przegląd systemu zarządzani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rodowiskiem </a:t>
            </a: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organizacji w zaplanowanych odstępach czasu, w celu zapewnienia jego stałej przydatności, adekwatności i skuteczności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Przegląd zarządzania powinien obejmować rozważeni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statusu działań podjętych w następstwie wcześniejszych przeglądów zarządzan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zmian dotyczących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czynników zewnętrznych i wewnętrznych, istotnych dla systemu zarządzania środowiskowego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potrzeb i oczekiwań stron zainteresowanych, w tym zobowiązań dot. zgodnoś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jej znaczących aspektów środowiskowy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ryzyk i szan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69800" y="304920"/>
            <a:ext cx="7845480" cy="1145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24000" y="1447560"/>
            <a:ext cx="7920000" cy="52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nia w jakim osiągnięto cele środowiskow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cji o efektach działania środowiskowego organizacji, z uwzględnieniem trendów dotyczącyc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godności i działań korygujących;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ników monitorowania i pomiar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ełniania zobowiązań dotyczących zgodnośc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dekwatnoś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sob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stotnych informacji przekazywanych przez strony zainteresowane, w tym skar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żliwoś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ągłeg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konal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ymbol zastępczy numeru slajdu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9C0-10DB-48EB-A18E-8BCC9D9CC85B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609200"/>
            <a:ext cx="85075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ne wyjściowe z przeglądu powinny zawiera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nioski dot. stałej przydatności, adekwatności i skuteczności systemu Z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e związane z możliwościami ciągłego doskona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cyzje związane z wszelkimi potrzebami zmian w systemie ZŚ, w tym dot. zasob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ziałania podejmowane w razie potrzeby, jeśli cele środowiskowe nie zostały osiągnię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ci poprawy integracji systemu ZŚ z innymi procesami biznesowymi, jeśli to niezbę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powinna przechow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ako dowód wyników przeglądu zarząd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C555-02D7-4DB7-9714-7BB671973010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17160" y="1633680"/>
            <a:ext cx="857412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 sytuacji wystąpienia niezgodności, organizacja powin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eagować na niezgodności i odpowiednio: podjąć działania, mające na celu nadzorowanie i skorygow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jąć się następstwami, w tym łagodzeniem niekorzystnych wpływów na środowi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cenić potrzebę podjęcia działań w celu wyeliminowania przyczyn niezgodności, tak aby się one nie powtórzyły lub wystąpiły w innym miejscu, przez ich przegląd, ustalanie przyczyny oraz ustalenie, czy istnieją podobne niezgodności, lub mogą potencjalnie wystąp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drożyć wszelkie niezbędne działania;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9280" y="169020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f00"/>
                </a:solidFill>
                <a:latin typeface="Arial"/>
              </a:rPr>
              <a:t>system zarządzania środowisk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zęść systemu zarządzania wykorzystywana do zarządzania aspektami środowiskowymi spełniania zobowiązań dotyczących zgodności oraz odniesienia się do ryzyk i sz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204-3444-4FDA-B75A-28F99F712AB6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ytuł 1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229600" cy="8236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17520" y="1303200"/>
            <a:ext cx="864216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okonać przeglądu skuteczności wszelkich podjętych działań korygując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prowadzić zmiany w systemie zarządzania środowiskowego, jeśli jest to konie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ziałania korygujące powinny być dostosowane do skutków występujących niezgodności, w tym ich wpływów na środowisk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zachować </a:t>
            </a:r>
            <a:r>
              <a:rPr b="0" lang="pl-PL" sz="2400" spc="-1" strike="noStrike">
                <a:solidFill>
                  <a:srgbClr val="f50b6f"/>
                </a:solidFill>
                <a:latin typeface="Arial"/>
                <a:ea typeface="Arial"/>
              </a:rPr>
              <a:t>udokumentowaną informacj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jako dowó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odzaju niezgodności oraz wszelkich podjętych dział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ników wszelkich działań korygu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761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ciągle doskonalić przydatność, adekwatność lub skuteczności systemu zarządzania środowiskowego, aby poprawić środowiskowe efekty działalnośc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ymbol zastępczy daty 3"/>
          <p:cNvSpPr/>
          <p:nvPr/>
        </p:nvSpPr>
        <p:spPr>
          <a:xfrm>
            <a:off x="457200" y="602928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995A-BD02-4F5E-90FE-90BAF9824611}" type="datetime">
              <a:rPr b="0" lang="pl-PL" sz="1200" spc="-1" strike="noStrike">
                <a:solidFill>
                  <a:srgbClr val="00ff00"/>
                </a:solidFill>
                <a:latin typeface="Arial"/>
              </a:rPr>
              <a:t>28.07.26</a:t>
            </a:fld>
            <a:r>
              <a:rPr b="0" lang="pl-PL" sz="1200" spc="-1" strike="noStrike">
                <a:solidFill>
                  <a:srgbClr val="00ff00"/>
                </a:solidFill>
                <a:latin typeface="Arial"/>
              </a:rPr>
              <a:t> </a:t>
            </a:r>
            <a:fld id="{7C8F974B-597A-4844-A297-7A357CCCD1DF}" type="datetime12">
              <a:rPr b="0" lang="pl-PL" sz="1200" spc="-1" strike="noStrike">
                <a:solidFill>
                  <a:srgbClr val="00ff00"/>
                </a:solidFill>
                <a:latin typeface="Arial"/>
              </a:rPr>
              <a:t>06:48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ymbol zastępczy numeru slajdu 5"/>
          <p:cNvSpPr/>
          <p:nvPr/>
        </p:nvSpPr>
        <p:spPr>
          <a:xfrm>
            <a:off x="6553080" y="6029280"/>
            <a:ext cx="2133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8054-C246-4468-A159-3AF4A6A6D3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57200" y="7030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539640" y="1900080"/>
            <a:ext cx="77774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2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ziękuję za uwagę</a:t>
            </a:r>
            <a:endParaRPr b="1" lang="en-US" sz="332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944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07640" y="126828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ncją normy jest dostarczenie organizacjom narzędzia ułatwiającego ochronę środowiska i reagowanie na zmiany warunków środowiskow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 zgodzie z potrzebami społecznymi i gospodarczy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worzenie możliwości wniesienia wkładu w zrównoważony rozwój poprze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chronę środowiska przez zapobieganie lub łagodzenie niekorzystnych wpływów na środowisko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łagodzenie niekorzystnego wpływu warunków środowiskowych na organizację;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spieranie organizacji w spełnianiu zobowiązań dotyczących zgodności;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prawianie efektów działalności środowiskowej;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dzorowanie lub wpływanie na to, jak wyroby i usługi organizacji są projektowane, wykonywane, rozprowadzane, konsumowane i unieszkodliwiane przez zastosowanie perspektywy cyklu ży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rzyści finansowych i operacyjnych, które mogą wynikać z zastosowania korzystnych dla środowiska rozwiązań wzmacniających pozycję rynkową organiza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zekazywanie informacji środowiskowych stronom zainteresowan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BD1D-83B6-4D36-A7B3-CB70D7FC0C4A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rostokąt zaokrąglony 9"/>
          <p:cNvSpPr/>
          <p:nvPr/>
        </p:nvSpPr>
        <p:spPr>
          <a:xfrm>
            <a:off x="1781280" y="1766880"/>
            <a:ext cx="5049720" cy="4254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Elipsa 8"/>
          <p:cNvSpPr/>
          <p:nvPr/>
        </p:nvSpPr>
        <p:spPr>
          <a:xfrm>
            <a:off x="1979640" y="1900080"/>
            <a:ext cx="4586400" cy="3856320"/>
          </a:xfrm>
          <a:prstGeom prst="ellipse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Tytuł 1" descr=""/>
          <p:cNvPicPr/>
          <p:nvPr/>
        </p:nvPicPr>
        <p:blipFill>
          <a:blip r:embed="rId1"/>
          <a:stretch/>
        </p:blipFill>
        <p:spPr>
          <a:xfrm>
            <a:off x="249120" y="517680"/>
            <a:ext cx="8712360" cy="720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0720" y="1701360"/>
            <a:ext cx="8229600" cy="4181400"/>
          </a:xfrm>
          <a:prstGeom prst="rect">
            <a:avLst/>
          </a:prstGeom>
          <a:ln w="0">
            <a:noFill/>
          </a:ln>
        </p:spPr>
      </p:pic>
      <p:sp>
        <p:nvSpPr>
          <p:cNvPr id="295" name="Elipsa 3"/>
          <p:cNvSpPr/>
          <p:nvPr/>
        </p:nvSpPr>
        <p:spPr>
          <a:xfrm>
            <a:off x="3002040" y="2598840"/>
            <a:ext cx="2655720" cy="234288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Przywództw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Elipsa 4"/>
          <p:cNvSpPr/>
          <p:nvPr/>
        </p:nvSpPr>
        <p:spPr>
          <a:xfrm>
            <a:off x="3635280" y="2031840"/>
            <a:ext cx="1328760" cy="86544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Planowan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Elipsa 5"/>
          <p:cNvSpPr/>
          <p:nvPr/>
        </p:nvSpPr>
        <p:spPr>
          <a:xfrm>
            <a:off x="3575160" y="4692600"/>
            <a:ext cx="1330200" cy="86220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Ocena efektów działalnośc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Elipsa 6"/>
          <p:cNvSpPr/>
          <p:nvPr/>
        </p:nvSpPr>
        <p:spPr>
          <a:xfrm>
            <a:off x="2046240" y="3360600"/>
            <a:ext cx="1197000" cy="93024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Doskonalen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lipsa 7"/>
          <p:cNvSpPr/>
          <p:nvPr/>
        </p:nvSpPr>
        <p:spPr>
          <a:xfrm>
            <a:off x="5369040" y="3409920"/>
            <a:ext cx="1231920" cy="865080"/>
          </a:xfrm>
          <a:prstGeom prst="ellipse">
            <a:avLst/>
          </a:prstGeom>
          <a:solidFill>
            <a:srgbClr val="dec2e4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Wsparcie i działania operacyj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rostokąt 10"/>
          <p:cNvSpPr/>
          <p:nvPr/>
        </p:nvSpPr>
        <p:spPr>
          <a:xfrm>
            <a:off x="2693880" y="1633680"/>
            <a:ext cx="3384720" cy="26496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Arial"/>
              </a:rPr>
              <a:t>Zakres Systemu zarządzania środowiskowe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rostokąt 33"/>
          <p:cNvSpPr/>
          <p:nvPr/>
        </p:nvSpPr>
        <p:spPr>
          <a:xfrm>
            <a:off x="252360" y="2031840"/>
            <a:ext cx="1476360" cy="69552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zynniki wewnętrzne i zewnętr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rostokąt 34"/>
          <p:cNvSpPr/>
          <p:nvPr/>
        </p:nvSpPr>
        <p:spPr>
          <a:xfrm>
            <a:off x="2341440" y="1235160"/>
            <a:ext cx="4391280" cy="26820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Kontekst Organizacj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rostokąt 35"/>
          <p:cNvSpPr/>
          <p:nvPr/>
        </p:nvSpPr>
        <p:spPr>
          <a:xfrm>
            <a:off x="3598920" y="5824440"/>
            <a:ext cx="1461960" cy="73188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Zamierzone wyniki systemu zarządzania środowiskoweg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załka w prawo 36"/>
          <p:cNvSpPr/>
          <p:nvPr/>
        </p:nvSpPr>
        <p:spPr>
          <a:xfrm rot="2118600">
            <a:off x="1744200" y="2731680"/>
            <a:ext cx="549360" cy="28404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66cc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rostokąt 39"/>
          <p:cNvSpPr/>
          <p:nvPr/>
        </p:nvSpPr>
        <p:spPr>
          <a:xfrm>
            <a:off x="7099200" y="1898640"/>
            <a:ext cx="1332000" cy="808200"/>
          </a:xfrm>
          <a:prstGeom prst="rect">
            <a:avLst/>
          </a:prstGeom>
          <a:solidFill>
            <a:srgbClr val="ffff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Potrzeby i oczekiwania stron zainteresowanyc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załka w prawo 44"/>
          <p:cNvSpPr/>
          <p:nvPr/>
        </p:nvSpPr>
        <p:spPr>
          <a:xfrm rot="8905800">
            <a:off x="6325560" y="2476080"/>
            <a:ext cx="747720" cy="27612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66ccff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Łącznik łamany 2"/>
          <p:cNvCxnSpPr>
            <a:endCxn id="303" idx="3"/>
          </p:cNvCxnSpPr>
          <p:nvPr/>
        </p:nvCxnSpPr>
        <p:spPr>
          <a:xfrm flipH="1">
            <a:off x="5060880" y="5666400"/>
            <a:ext cx="603720" cy="524160"/>
          </a:xfrm>
          <a:prstGeom prst="bentConnector3">
            <a:avLst>
              <a:gd name="adj1" fmla="val -1551"/>
            </a:avLst>
          </a:prstGeom>
          <a:ln w="1152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308" name="Łącznik łamany 16"/>
          <p:cNvCxnSpPr>
            <a:endCxn id="303" idx="1"/>
          </p:cNvCxnSpPr>
          <p:nvPr/>
        </p:nvCxnSpPr>
        <p:spPr>
          <a:xfrm flipH="1" flipV="1" rot="10800000">
            <a:off x="2842920" y="5756040"/>
            <a:ext cx="756360" cy="435600"/>
          </a:xfrm>
          <a:prstGeom prst="bentConnector3">
            <a:avLst>
              <a:gd name="adj1" fmla="val -238"/>
            </a:avLst>
          </a:prstGeom>
          <a:ln w="1152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309" name="Strzałka zakrzywiona w lewo 19"/>
          <p:cNvSpPr/>
          <p:nvPr/>
        </p:nvSpPr>
        <p:spPr>
          <a:xfrm rot="18985200">
            <a:off x="5492880" y="1963440"/>
            <a:ext cx="358560" cy="1514520"/>
          </a:xfrm>
          <a:custGeom>
            <a:avLst/>
            <a:gdLst>
              <a:gd name="textAreaLeft" fmla="*/ 47880 w 358560"/>
              <a:gd name="textAreaRight" fmla="*/ 310680 w 358560"/>
              <a:gd name="textAreaTop" fmla="*/ 344880 h 1514520"/>
              <a:gd name="textAreaBottom" fmla="*/ 112464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41" stAng="-5400000" swAng="5400000"/>
                <a:lnTo>
                  <a:pt x="21600" y="11121"/>
                </a:lnTo>
                <a:arcTo wR="21600" hR="9841" stAng="0" swAng="1833213"/>
                <a:lnTo>
                  <a:pt x="13197" y="19550"/>
                </a:lnTo>
                <a:lnTo>
                  <a:pt x="0" y="20321"/>
                </a:lnTo>
                <a:lnTo>
                  <a:pt x="13197" y="16992"/>
                </a:lnTo>
                <a:lnTo>
                  <a:pt x="13197" y="17631"/>
                </a:lnTo>
                <a:arcTo wR="21600" hR="9841" stAng="1833213" swAng="-1731168"/>
                <a:lnTo>
                  <a:pt x="21554" y="10481"/>
                </a:lnTo>
                <a:arcTo wR="21600" hR="9841" stAng="-102045" swAng="-5297955"/>
                <a:close/>
              </a:path>
              <a:path fill="darkenLess" w="21600" h="21600">
                <a:moveTo>
                  <a:pt x="0" y="0"/>
                </a:moveTo>
                <a:arcTo wR="21600" hR="9841" stAng="-5400000" swAng="5400000"/>
                <a:lnTo>
                  <a:pt x="21600" y="11121"/>
                </a:lnTo>
                <a:arcTo wR="21600" hR="9841" stAng="0" swAng="-102045"/>
                <a:lnTo>
                  <a:pt x="21554" y="10481"/>
                </a:lnTo>
                <a:arcTo wR="21600" hR="9841" stAng="-102045" swAng="-5297955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załka zakrzywiona w lewo 43"/>
          <p:cNvSpPr/>
          <p:nvPr/>
        </p:nvSpPr>
        <p:spPr>
          <a:xfrm rot="3382800">
            <a:off x="5398560" y="4147920"/>
            <a:ext cx="358560" cy="1514520"/>
          </a:xfrm>
          <a:custGeom>
            <a:avLst/>
            <a:gdLst>
              <a:gd name="textAreaLeft" fmla="*/ 47880 w 358560"/>
              <a:gd name="textAreaRight" fmla="*/ 310680 w 358560"/>
              <a:gd name="textAreaTop" fmla="*/ 344880 h 1514520"/>
              <a:gd name="textAreaBottom" fmla="*/ 112464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41" stAng="-5400000" swAng="5400000"/>
                <a:lnTo>
                  <a:pt x="21600" y="11121"/>
                </a:lnTo>
                <a:arcTo wR="21600" hR="9841" stAng="0" swAng="1833213"/>
                <a:lnTo>
                  <a:pt x="13197" y="19550"/>
                </a:lnTo>
                <a:lnTo>
                  <a:pt x="0" y="20321"/>
                </a:lnTo>
                <a:lnTo>
                  <a:pt x="13197" y="16992"/>
                </a:lnTo>
                <a:lnTo>
                  <a:pt x="13197" y="17631"/>
                </a:lnTo>
                <a:arcTo wR="21600" hR="9841" stAng="1833213" swAng="-1731168"/>
                <a:lnTo>
                  <a:pt x="21554" y="10481"/>
                </a:lnTo>
                <a:arcTo wR="21600" hR="9841" stAng="-102045" swAng="-5297955"/>
                <a:close/>
              </a:path>
              <a:path fill="darkenLess" w="21600" h="21600">
                <a:moveTo>
                  <a:pt x="0" y="0"/>
                </a:moveTo>
                <a:arcTo wR="21600" hR="9841" stAng="-5400000" swAng="5400000"/>
                <a:lnTo>
                  <a:pt x="21600" y="11121"/>
                </a:lnTo>
                <a:arcTo wR="21600" hR="9841" stAng="0" swAng="-102045"/>
                <a:lnTo>
                  <a:pt x="21554" y="10481"/>
                </a:lnTo>
                <a:arcTo wR="21600" hR="9841" stAng="-102045" swAng="-5297955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załka zakrzywiona w lewo 46"/>
          <p:cNvSpPr/>
          <p:nvPr/>
        </p:nvSpPr>
        <p:spPr>
          <a:xfrm rot="13627200">
            <a:off x="2742120" y="1900440"/>
            <a:ext cx="360360" cy="1514520"/>
          </a:xfrm>
          <a:custGeom>
            <a:avLst/>
            <a:gdLst>
              <a:gd name="textAreaLeft" fmla="*/ 48240 w 360360"/>
              <a:gd name="textAreaRight" fmla="*/ 312120 w 360360"/>
              <a:gd name="textAreaTop" fmla="*/ 344880 h 1514520"/>
              <a:gd name="textAreaBottom" fmla="*/ 112464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37" stAng="-5400000" swAng="5400000"/>
                <a:lnTo>
                  <a:pt x="21600" y="11121"/>
                </a:lnTo>
                <a:arcTo wR="21600" hR="9837" stAng="0" swAng="1832602"/>
                <a:lnTo>
                  <a:pt x="13197" y="19551"/>
                </a:lnTo>
                <a:lnTo>
                  <a:pt x="0" y="20315"/>
                </a:lnTo>
                <a:lnTo>
                  <a:pt x="13197" y="16981"/>
                </a:lnTo>
                <a:lnTo>
                  <a:pt x="13197" y="17624"/>
                </a:lnTo>
                <a:arcTo wR="21600" hR="9837" stAng="1832602" swAng="-1730236"/>
                <a:lnTo>
                  <a:pt x="21554" y="10479"/>
                </a:lnTo>
                <a:arcTo wR="21600" hR="9837" stAng="-102366" swAng="-5297634"/>
                <a:close/>
              </a:path>
              <a:path fill="darkenLess" w="21600" h="21600">
                <a:moveTo>
                  <a:pt x="0" y="0"/>
                </a:moveTo>
                <a:arcTo wR="21600" hR="9837" stAng="-5400000" swAng="5400000"/>
                <a:lnTo>
                  <a:pt x="21600" y="11121"/>
                </a:lnTo>
                <a:arcTo wR="21600" hR="9837" stAng="0" swAng="-102366"/>
                <a:lnTo>
                  <a:pt x="21554" y="10479"/>
                </a:lnTo>
                <a:arcTo wR="21600" hR="9837" stAng="-102366" swAng="-5297634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załka zakrzywiona w lewo 47"/>
          <p:cNvSpPr/>
          <p:nvPr/>
        </p:nvSpPr>
        <p:spPr>
          <a:xfrm rot="7782600">
            <a:off x="2741760" y="4262760"/>
            <a:ext cx="360360" cy="1514520"/>
          </a:xfrm>
          <a:custGeom>
            <a:avLst/>
            <a:gdLst>
              <a:gd name="textAreaLeft" fmla="*/ 48240 w 360360"/>
              <a:gd name="textAreaRight" fmla="*/ 312120 w 360360"/>
              <a:gd name="textAreaTop" fmla="*/ 344880 h 1514520"/>
              <a:gd name="textAreaBottom" fmla="*/ 1124640 h 15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837" stAng="-5400000" swAng="5400000"/>
                <a:lnTo>
                  <a:pt x="21600" y="11121"/>
                </a:lnTo>
                <a:arcTo wR="21600" hR="9837" stAng="0" swAng="1553490"/>
                <a:lnTo>
                  <a:pt x="14779" y="18937"/>
                </a:lnTo>
                <a:lnTo>
                  <a:pt x="0" y="20315"/>
                </a:lnTo>
                <a:lnTo>
                  <a:pt x="14779" y="16367"/>
                </a:lnTo>
                <a:lnTo>
                  <a:pt x="14779" y="17010"/>
                </a:lnTo>
                <a:arcTo wR="21600" hR="9837" stAng="1553490" swAng="-1451124"/>
                <a:lnTo>
                  <a:pt x="21554" y="10479"/>
                </a:lnTo>
                <a:arcTo wR="21600" hR="9837" stAng="-102366" swAng="-5297634"/>
                <a:close/>
              </a:path>
              <a:path fill="darkenLess" w="21600" h="21600">
                <a:moveTo>
                  <a:pt x="0" y="0"/>
                </a:moveTo>
                <a:arcTo wR="21600" hR="9837" stAng="-5400000" swAng="5400000"/>
                <a:lnTo>
                  <a:pt x="21600" y="11121"/>
                </a:lnTo>
                <a:arcTo wR="21600" hR="9837" stAng="0" swAng="-102366"/>
                <a:lnTo>
                  <a:pt x="21554" y="10479"/>
                </a:lnTo>
                <a:arcTo wR="21600" hR="9837" stAng="-102366" swAng="-5297634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ytuł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437680" cy="583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609200"/>
            <a:ext cx="80024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PLANUJ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ustal cele środowiskowe i procesy niezbędne do osiągnięcia wyników zgodnych z polityką środowiskow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WYKONAJ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 wdróż procesy zgodnie z plan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SPRAWDŹ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 monitoruj i mierz procesy w odniesieniu do polityki środowiskowej, celów środowiskowych i kryteriów operacyjnych oraz informuj o wynik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ff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Arial"/>
              </a:rPr>
              <a:t>DZIAŁAJ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– podejmij działania w celu ciągłego doskonalen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ymbol zastępczy numeru slajdu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7C86-01E7-4002-8528-9BC87C3CDB02}" type="slidenum">
              <a:rPr b="0" lang="pl-PL" sz="11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51:02Z</dcterms:created>
  <dc:creator>Computr</dc:creator>
  <dc:description/>
  <dc:language>en-US</dc:language>
  <cp:lastModifiedBy>Wioletta Kurek</cp:lastModifiedBy>
  <dcterms:modified xsi:type="dcterms:W3CDTF">2023-06-13T08:29:39Z</dcterms:modified>
  <cp:revision>104</cp:revision>
  <dc:subject/>
  <dc:title>EN-ISO 14001:1996</dc:title>
</cp:coreProperties>
</file>