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7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5.png" ContentType="image/png"/>
  <Override PartName="/ppt/media/image36.png" ContentType="image/png"/>
  <Override PartName="/ppt/media/image51.png" ContentType="image/png"/>
  <Override PartName="/ppt/media/image37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.jpeg" ContentType="image/jpeg"/>
  <Override PartName="/ppt/media/image50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38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AD52-774A-4A83-A230-BE17B6A90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A5C0-39D1-4439-969C-799A0A65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16774-FFD6-4C6B-9FE4-AA2D04C1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D27A6-FAC0-4F0B-98D5-E686CBF5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AE13B-7CCC-41D4-80F9-EF4510EA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C836C-3599-44E3-A7CF-DC1EAEFD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5D5D05-1867-4206-AA39-959128AE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0FD79-DEE4-4B79-8BDA-C5188CE3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982CD-C474-48B2-BE16-A9FA49F8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FCD4F-C8B7-44BE-860F-6B34397B7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B05ACA-0E24-40F9-821B-645AA6655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785C-2568-4DC3-BCF3-C95CD61C0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0C15-179C-45F0-BC88-94B287776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C350-63FA-4D36-9417-6E903B7CF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98BC-6917-4A41-BB6C-3208CAF8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D555-E1BD-4807-83E1-95C65B5B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A0C6-F121-468C-8AC6-8C625A00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01B0-4310-4D1B-B247-1AC9706D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2EF6-E3EB-4EFA-8922-C92F1E5A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17F7-56CC-4645-8191-EF798885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1ECF-23F0-44D7-B6E4-017944AD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9F2B-7998-4765-8532-E1DBF828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7F06-7369-4493-A668-B31309AF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26E8-C4CF-4775-91B7-C9E4BEF5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1521-62D5-4383-9575-7BB14756D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6E8D-3978-4BD6-A601-8E2B528C8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6E8DE-B70C-4284-8388-E07943016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B2382-7D32-4885-9433-B91C45E5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C4ACA-CF69-4971-9082-D9661C0D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2BBE3-2A00-4694-9C9A-C2207CC7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D5258-E6F1-4D3E-9F04-D7886B25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DD1C-4DB8-4527-BFB6-AFB62FF9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B4D32-1613-4BD1-BA8F-BC20F77C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F72F9-9F22-4CEA-BDD0-C95B94AE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358EA-4721-493F-A9C9-2F2A1F3D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E97F2-59C9-498D-BEAD-4CCC6D40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D7D2B-E825-4682-987B-731A806F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0738E-10CB-4737-8DF1-B5B75E1F9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1E3B2-E922-4233-9EEF-159CD6E08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0934E-C9BD-4BF7-8BDB-286A18036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01C62-72A7-44DC-9E6F-58675BFC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F811B-6F2E-4E6E-A81A-67790EC1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5F74-EE10-44EA-B8DF-9DE3F183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93F9B-D40E-496E-8FE6-7D1D785E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BFC83-E4A3-4950-9FA5-75407243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B4B69-F4D0-4227-A4AC-0FBAB854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0764F-B035-45C4-AE61-B444ECF0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5F18C-8F74-43F7-B4BD-5AD77BCF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84647-03E1-4902-821C-0FA7080B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B3633-D7B2-48CB-8CDC-00FFA2CB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0D8A4-5584-497B-BEFD-BFB70FAA4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C1D15-67A8-4E84-854C-53965DF76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EE818-5FD4-410A-9FC0-1E3F533FA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5768-2B6B-4FBA-AF7C-64A927CD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07F65-434E-4824-8D1F-B9EF7C73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9EFDC-5F19-4E51-83E5-047527D7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4B45D-631D-4AB0-BA29-8CC8AD33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7BA26-D264-483C-99BE-F17DC1AE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4FF26-3F37-42B8-9439-1FEB8474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672EC-AF37-4838-A42C-212932BD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2051E-3872-49CF-8577-42833706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A77BB-4A14-4AFF-8FA9-A4C62531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9BC5A-DE9F-4306-A353-AAA51200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B220E-DF37-4C8C-A934-96C7635D2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B18D-FE81-4DCC-827B-FF8BB537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3C913-3630-4EDC-BE14-1D9F79E17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B6EF0-6E82-4363-AAFD-F85DB600E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DB05F-4AC6-4770-BCEE-AB369770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36C96-92DC-4D19-A34F-6231201F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529B2-F37A-4F3A-BF41-402FD517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16475-6008-412F-B0FA-94BD5CB8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36F6B-DE27-4089-9C03-EB37E535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DBFFD-776C-4C98-9C14-010B3AC4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48B12-72FA-4414-BD6D-0D274748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36E08-AB73-4CCD-8E2C-4EE2A3CD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36E3-5CBA-4D8F-976C-241310E5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5B108-BA04-4E51-B8FA-3CC4B154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0B112-91F9-445A-B2DA-94E2C1C4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E2AB3-3537-44B5-A6C9-2CBC59F75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84B8E-7153-4209-8737-0D48BE11A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31421-9649-445C-96A5-7516688C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84CC1-97B5-4272-9A81-7ACDB45E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7A4FF-FCE7-4DA8-BBDA-ACF00149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901D7-BE69-4510-BFB2-6AFDB63F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69542-CDF8-4EB9-A105-352B824A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E6488-7164-4C23-ABC3-826BBC3E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0F2D-CDC5-49CE-8662-DECCA99C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BFF7A-3B30-47F0-9307-4F845518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F835C-F236-4F12-A93B-D6E557E8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415C1-19C2-448D-A3DA-7E574FFD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68E95-3556-45CC-ABB2-26A775EA0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A61E1-ACF5-4B61-A9FA-F35852D97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FBA1C-9177-41C3-A48F-A6CEBE25A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2C82C-948F-4D10-A2B3-9C6531E6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56890-84D3-4A91-A530-182D2D46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492DD-4D38-4B45-B578-AA456084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C9131-D480-432A-A2CF-2F977876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5D07-FE29-4E73-BCFA-BC4B8F5C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72EE5-D356-4BD2-81CF-6716FF68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6EACD-09E2-4C5B-B4C4-1EA0BF8A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F8EBD-98F2-4F2D-B508-4C5927F7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10A35-D302-4888-802D-37457736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FD39B-6008-42D7-9296-EF34E619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27063-6FDF-4A34-A930-79D5CA992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B7754-E4B7-46D0-9405-34ECB9B23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C1362-6E98-4CFB-9169-D7F87C74A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21108-0ECC-477D-AE9E-BA9ADC49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A7581-8FC7-45C1-9EDF-D24A05FA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cff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Trójkąt prostokątny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Trójkąt prostokątny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" name="Łącznik prosty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2a5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6f61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EC11-FA7F-4692-8BD0-237A658FE5C4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264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4E04-8787-4916-B760-6D91CD919DA2}" type="slidenum">
              <a:rPr b="0" lang="pl-PL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rójkąt prostokątny 1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2ecc00"/>
              </a:gs>
              <a:gs pos="50000">
                <a:srgbClr val="6dff35"/>
              </a:gs>
              <a:gs pos="100000">
                <a:srgbClr val="2ecc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" name="Grupa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0" name="Dowolny kształt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acff9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Dowolny kształt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" name="Dowolny kształt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93" name="Dowolny kształt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95" name="Łącznik prosty 6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2a5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6f61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1DD6-2919-4599-A1BC-2BD5ED75773B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cff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9" name="Trójkąt prostokątny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0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42" name="Łącznik prosty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43" name="Pag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49db00"/>
              </a:gs>
              <a:gs pos="100000">
                <a:srgbClr val="91ff74"/>
              </a:gs>
            </a:gsLst>
            <a:lin ang="16200000"/>
          </a:gradFill>
          <a:ln cap="rnd" w="3240">
            <a:solidFill>
              <a:srgbClr val="49b50d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ag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49db00"/>
              </a:gs>
              <a:gs pos="100000">
                <a:srgbClr val="91ff74"/>
              </a:gs>
            </a:gsLst>
            <a:lin ang="16200000"/>
          </a:gradFill>
          <a:ln cap="rnd" w="3240">
            <a:solidFill>
              <a:srgbClr val="49b50d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6f61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E2DE-53CB-457F-8C75-00526FC557E3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cff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8" name="Trójkąt prostokątny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89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91" name="Łącznik prosty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6f61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C7F3-54AB-48E2-8DA5-332CA2DC473F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2a5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6f61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62C2-6EBE-4D9F-8668-99546CCC3D1A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cff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6" name="Trójkąt prostokątny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7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79" name="Łącznik prosty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6f61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90F7-356C-4B09-9389-C97FA22C871A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2a5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6f61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2266-4134-4308-A0C2-6AD9BABA59BC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Dowolny kształt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cff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Dowolny kształt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4" name="Trójkąt prostokątny 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65" name="Trójkąt prostokątny 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67" name="Łącznik prosty 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68" name="Pag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49db00"/>
              </a:gs>
              <a:gs pos="100000">
                <a:srgbClr val="91ff74"/>
              </a:gs>
            </a:gsLst>
            <a:lin ang="16200000"/>
          </a:gradFill>
          <a:ln cap="rnd" w="3240">
            <a:solidFill>
              <a:srgbClr val="49b50d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ag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49db00"/>
              </a:gs>
              <a:gs pos="100000">
                <a:srgbClr val="91ff74"/>
              </a:gs>
            </a:gsLst>
            <a:lin ang="16200000"/>
          </a:gradFill>
          <a:ln cap="rnd" w="3240">
            <a:solidFill>
              <a:srgbClr val="49b50d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66f61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1297-002E-4FCC-B81A-E54701AFAC6D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ole tekstowe 3"/>
          <p:cNvSpPr/>
          <p:nvPr/>
        </p:nvSpPr>
        <p:spPr>
          <a:xfrm>
            <a:off x="352440" y="3390840"/>
            <a:ext cx="500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Studia podyplomow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Zarządzanie jakością wg norm ISO 9000” ed. 3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ole tekstowe 4"/>
          <p:cNvSpPr/>
          <p:nvPr/>
        </p:nvSpPr>
        <p:spPr>
          <a:xfrm>
            <a:off x="352440" y="4170240"/>
            <a:ext cx="559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mówienie i analiza normy ISO 450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ole tekstowe 5"/>
          <p:cNvSpPr/>
          <p:nvPr/>
        </p:nvSpPr>
        <p:spPr>
          <a:xfrm>
            <a:off x="352440" y="4902120"/>
            <a:ext cx="41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ioletta Kure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ole tekstowe 6"/>
          <p:cNvSpPr/>
          <p:nvPr/>
        </p:nvSpPr>
        <p:spPr>
          <a:xfrm>
            <a:off x="352440" y="5178600"/>
            <a:ext cx="41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data: 18.06.202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Osoba lub grupa osób, pełniąca funkcje z przypisaniem odpowiedzialności, uprawnień i powiązań do osiągniecia swoich celó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Lucida Sans Unicode"/>
              </a:rPr>
              <a:t>/* Termin wspólny dla norm IS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7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48" name="Symbol zastępczy numeru slajdu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1FF7-F294-493F-973B-B36066EBAEBB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Symbol zastępczy daty 6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cc"/>
                </a:solidFill>
                <a:latin typeface="Lucida Sans Unicode"/>
              </a:rPr>
              <a:t>Kontekst organizacji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452" name="Symbol zastępczy numeru slajdu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D7F2-10EC-41D9-B7BD-92978C5D6306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Symbol zastępczy daty 6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Organizacja określa kwestie zewnętrzne i wewnętrzne, które są istotne dla jej celu i ich wpływu na zdolność do osiągnięcia zakładanego wyniku swojego systemu zarządzania BH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5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56" name="Symbol zastępczy numeru slajdu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CC29-A5A1-4F20-A264-2AE276FA321B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Symbol zastępczy daty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108000" y="2204640"/>
            <a:ext cx="8905680" cy="38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Organizacja jest zobowiązana określić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strony zainteresowane, oprócz pracowników, istotne dla systemu zarządzania BHP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Istotne potrzeby i oczekiwania (tj. wymagania) pracowników i innych zainteresowanych stron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które z tych potrzeb i oczekiwań są lub mogłyby stać się wymaganiami prawnymi i innymi wymaganiami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9" name="Tytuł 2" descr=""/>
          <p:cNvPicPr/>
          <p:nvPr/>
        </p:nvPicPr>
        <p:blipFill>
          <a:blip r:embed="rId1"/>
          <a:stretch/>
        </p:blipFill>
        <p:spPr>
          <a:xfrm>
            <a:off x="176040" y="225360"/>
            <a:ext cx="8839440" cy="1474920"/>
          </a:xfrm>
          <a:prstGeom prst="rect">
            <a:avLst/>
          </a:prstGeom>
          <a:ln w="0">
            <a:noFill/>
          </a:ln>
        </p:spPr>
      </p:pic>
      <p:sp>
        <p:nvSpPr>
          <p:cNvPr id="460" name="Symbol zastępczy numeru slajdu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0569-AF89-46F1-B7DE-7011622EB696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324000" y="1481040"/>
            <a:ext cx="84960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Lucida Sans Unicode"/>
              </a:rPr>
              <a:t>Organizacja powinna określić granice i możliwości zastosowania systemu zarządzania bhp, w celu określenia jego zakresu. Ustalając zakres należy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Lucida Sans Unicode"/>
              </a:rPr>
              <a:t>rozważyć czynniki wewnętrzne i zewnętrzne (związane z kontekstem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Lucida Sans Unicode"/>
              </a:rPr>
              <a:t>uwzględnić wymagania dot. Potrzeb i oczekiwań pracowników i innych stron zainteresowanych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Lucida Sans Unicode"/>
              </a:rPr>
              <a:t>uwzględnić planowane do wykonania działania związane z pracą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3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64" name="Symbol zastępczy numeru slajdu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BBAA-B77F-4499-BCE3-F8700BD64341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Symbol zastępczy daty 6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Lucida Sans Unicode"/>
              </a:rPr>
              <a:t>Zakres systemu powinien obejmować działania, wyroby i usługi, które są pod nadzorem lub wpływem organizacji i mogą mieć wpływ na wyniki systemu oraz być w postaci </a:t>
            </a:r>
            <a:r>
              <a:rPr b="0" lang="pl-PL" sz="2800" spc="-1" strike="noStrike">
                <a:solidFill>
                  <a:srgbClr val="ff0000"/>
                </a:solidFill>
                <a:latin typeface="Lucida Sans Unicode"/>
              </a:rPr>
              <a:t>udokumentowanej informacji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7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68" name="Symbol zastępczy numeru slajdu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2B6A-42E8-4AAB-AE9A-A5C0FF351A78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Symbol zastępczy daty 6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System należy ustanowić, wdrożyć, utrzymywać i doskonalić, włączając niezbędne procesy i ich wzajemne powiązania zgodnie z wymaganiami ISO 45001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1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72" name="Symbol zastępczy numeru slajdu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3807-1F19-4369-A371-9A3180F92C42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Symbol zastępczy daty 6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33cc"/>
                </a:solidFill>
                <a:latin typeface="Lucida Sans Unicode"/>
              </a:rPr>
              <a:t>Przywództwo i współudział pracowników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476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2226-2D5A-40F0-B408-94C5B0107DB6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179280" y="1480680"/>
            <a:ext cx="88344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04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Najwyższe kierownictwo powinno wykazać przywództwo i zaangażowanie poprzez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476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przyjęcie pełnej odpowiedzialności za zapobieganie urazom i dolegliwościom zdrowotnym związanych z pracą oraz zapewnienie bezpiecznych warunków prac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476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zapewnienie, że polityka i cele bhp są zgodne ze strategią działania organizacj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476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zapewnienie zintegrowania wymagań systemu z procesami biznesowymi organizacj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476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zapewnienie zasobów do wdrożenia, utrzymania i doskonalenia systemu…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9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80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223F-56B3-4E5E-A4F4-2716B1B2B2DD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179280" y="148104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komunikowanie znaczenia skutecznego zarzadzania bhp i zgodności z wymaganiami systemu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zapewnienie, żeby system bhp osiągał zakładane wyniki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kierowanie i wspieranie osób mających wpływ na skuteczność bh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zapewnianie i promowanie ciągłego doskonalen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zapewnienie, że organizacja ustanawia i wdraża proces konsultacji z pracownikami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2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83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1BCC-1DA9-4750-AFDF-EECB54C40CBE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682560" y="835200"/>
            <a:ext cx="7778880" cy="259704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3924000" y="4653000"/>
            <a:ext cx="3848040" cy="985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2a50"/>
                </a:solidFill>
                <a:latin typeface="Arial"/>
              </a:rPr>
              <a:t>Wioletta Kure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130320" y="836280"/>
            <a:ext cx="90136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Lucida Sans Unicode"/>
              </a:rPr>
              <a:t>Najwyższe kierownictwo ustanawia politykę BHP, która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Lucida Sans Unicode"/>
              </a:rPr>
              <a:t>obejmuje zobowiązanie do zapewnienia bezpiecznych warunków pracy, w celu zapobiegania związanym z pracą urazów i dolegliwości zdrowotnych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Lucida Sans Unicode"/>
              </a:rPr>
              <a:t>jest odpowiednia do celu, wielkości, kontekstu, ryzyk i szans dot. bhp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Lucida Sans Unicode"/>
              </a:rPr>
              <a:t>tworzy ramy do realizacji celów bhp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Lucida Sans Unicode"/>
              </a:rPr>
              <a:t>zawiera zobowiązanie do spełnienia wymogów prawnych i innych wymagań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Lucida Sans Unicode"/>
              </a:rPr>
              <a:t>zawiera zobowiązanie do eliminowania zagrożeń i ograniczania ryzyk dot. BHP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Lucida Sans Unicode"/>
              </a:rPr>
              <a:t>zawiera zobowiązanie do ciągłego doskonalenia systemu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Lucida Sans Unicode"/>
              </a:rPr>
              <a:t>obejmuje zobowiązanie do konsultacji i uczestnictwa pracowników oraz/ lub przedstawicieli pracowników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Lucida Sans Unicode"/>
              </a:rPr>
              <a:t>Polityka BHP ma być w postaci </a:t>
            </a:r>
            <a:r>
              <a:rPr b="0" lang="pl-PL" sz="2300" spc="-1" strike="noStrike">
                <a:solidFill>
                  <a:srgbClr val="ff0000"/>
                </a:solidFill>
                <a:latin typeface="Lucida Sans Unicode"/>
              </a:rPr>
              <a:t>udokumentowanej informacji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6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706320"/>
          </a:xfrm>
          <a:prstGeom prst="rect">
            <a:avLst/>
          </a:prstGeom>
          <a:ln w="0">
            <a:noFill/>
          </a:ln>
        </p:spPr>
      </p:pic>
      <p:sp>
        <p:nvSpPr>
          <p:cNvPr id="487" name="Symbol zastępczy numeru slajdu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AA7C-E31A-404C-A186-BB21DEEABCF7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Organizacja ustanawia, wdraża i utrzymuje procesy konsultacji i udział pracowników na wszystkich mających zastosowanie poziomach i funkcjach, a tam, gdzie występują z  przedstawicielami w zakresie opracowywania, planowania, wdrażania, oceny działania i efektów działań na rzecz doskonalenia systemu zarządzania BH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9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90" name="Symbol zastępczy numeru slajdu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DF6E-AFF9-4751-9B0F-4E9D21343BF6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organizacja zapewnia czas, szkolenia i zasoby do współudziału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zapewnić terminowy dostęp do jednoznacznych, istotnych i zrozumiałych informacji na temat systemu bhp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określić i usunąć bariery dla współudziału lub ograniczyć te, których nie da się usunąć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podkreślać znaczenie współudziału i konsultacji z pracownikami na stanowiskach niekierowniczych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2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93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E60B-77D2-4DA1-888F-CBD86340E46E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250560" y="1196640"/>
            <a:ext cx="856908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06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Planując system zarządzania BHP, organizacja określa w postaci </a:t>
            </a:r>
            <a:r>
              <a:rPr b="0" lang="pl-PL" sz="2400" spc="-1" strike="noStrike">
                <a:solidFill>
                  <a:srgbClr val="ff0000"/>
                </a:solidFill>
                <a:latin typeface="Lucida Sans Unicode"/>
              </a:rPr>
              <a:t>udokumentowanej informacji 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ryzyka i szanse, aby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spcBef>
                <a:spcPts val="400"/>
              </a:spcBef>
              <a:buClr>
                <a:srgbClr val="66f616"/>
              </a:buClr>
              <a:buSzPct val="68000"/>
              <a:buFont typeface="Lucida Sans Unicod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zapewnić, że system zarządzania BHP może osiągnąć zamierzone rezultaty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spcBef>
                <a:spcPts val="400"/>
              </a:spcBef>
              <a:buClr>
                <a:srgbClr val="66f616"/>
              </a:buClr>
              <a:buSzPct val="68000"/>
              <a:buFont typeface="Lucida Sans Unicod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zapobiegać lub zmniejszać niepożądane skutk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spcBef>
                <a:spcPts val="400"/>
              </a:spcBef>
              <a:buClr>
                <a:srgbClr val="66f616"/>
              </a:buClr>
              <a:buSzPct val="68000"/>
              <a:buFont typeface="Lucida Sans Unicod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osiągnąć ciągłe doskonaleni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Przy ich określaniu bierze pod uwagę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Zagrożenia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ryzyka związane z BHP i inne rodzaje ryzyka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możliwości w zakresie BHP i inne możliwości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wymagania prawne i inne wymagania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6" name="Tytuł 2" descr=""/>
          <p:cNvPicPr/>
          <p:nvPr/>
        </p:nvPicPr>
        <p:blipFill>
          <a:blip r:embed="rId1"/>
          <a:stretch/>
        </p:blipFill>
        <p:spPr>
          <a:xfrm>
            <a:off x="109440" y="274680"/>
            <a:ext cx="8785440" cy="920880"/>
          </a:xfrm>
          <a:prstGeom prst="rect">
            <a:avLst/>
          </a:prstGeom>
          <a:ln w="0">
            <a:noFill/>
          </a:ln>
        </p:spPr>
      </p:pic>
      <p:sp>
        <p:nvSpPr>
          <p:cNvPr id="497" name="Symbol zastępczy numeru slajdu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D592-18DF-4BDF-A282-AB8565088CE0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198360" y="907920"/>
            <a:ext cx="86407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Organizacja ustanawia i określa proces ciągłej identyfikacji zagrożeń, oceny ryzyka oraz określenia potrzebnych środków nadzoru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Działania powinny brać pod uwagę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organizację pracy, czynniki społeczne, przywództwo oraz kulturę organizacj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działalności rutynowe i nierutynowe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istotne incydenty z przeszłości wewnątrz i na zewnątrz organizacji, w tym awarie i ich przyczyny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osoby mające dostęp do miejsc pracy włączając podwykonawców i gości, ich możliwości i inne czynniki ludzkie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inne zagadnienia m.in.projektowanie przestrzeni pracy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zmiany stanu wiedzy i informacji o zagrożeniach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9" name="Tytuł 2" descr=""/>
          <p:cNvPicPr/>
          <p:nvPr/>
        </p:nvPicPr>
        <p:blipFill>
          <a:blip r:embed="rId1"/>
          <a:stretch/>
        </p:blipFill>
        <p:spPr>
          <a:xfrm>
            <a:off x="249120" y="274680"/>
            <a:ext cx="8645760" cy="779400"/>
          </a:xfrm>
          <a:prstGeom prst="rect">
            <a:avLst/>
          </a:prstGeom>
          <a:ln w="0">
            <a:noFill/>
          </a:ln>
        </p:spPr>
      </p:pic>
      <p:sp>
        <p:nvSpPr>
          <p:cNvPr id="500" name="Symbol zastępczy numeru slajdu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ECF5-5C45-4FC4-A2C4-EC48ACC19C6D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Organizacja powinna ustanowić, wdrożyć i utrzymywać działania dl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oceny ryzyka dot. Bhp związanego ze zidentyfikowanymi zagrożeniami i skutecznością ustalonych środków ograniczających te ryzyk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Określić i ocenić inne ryzyka związane z ustanowieniem, wdrożeniem i utrzymywaniem systemu bh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2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03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2E16-29B1-4E4E-A186-1CE5ED81B45B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611280" y="1628280"/>
            <a:ext cx="8075520" cy="472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Działania powinny obejmować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90000"/>
              </a:lnSpc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infrastrukturę, wyposażenie i materiały w miejscu pracy, dostarczone przez organizację lub innych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90000"/>
              </a:lnSpc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zmiany lub proponowane zmiany w organizacji, jej działalności lub materiałach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90000"/>
              </a:lnSpc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zmiany w systemie zarządzania BHP, włączając zmiany przejściowe i ich wpływ na działania, proces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i czynności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90000"/>
              </a:lnSpc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wszystkie wymagania prawne w zakresie oceny ryzyka oraz środków ochrony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D260-81F6-4875-92FA-51B88EDFB8DB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7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08" name="Symbol zastępczy daty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Organizacja określ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możliwości w zakresie poprawy wyników w zakresie BHP, przy jednoczesnym uwzględnieniu planowanych zmian w organizacji, jej polityki, procesy lub działania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inne szanse poprawy systemu zarządzania BH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0" name="Tytuł 2" descr=""/>
          <p:cNvPicPr/>
          <p:nvPr/>
        </p:nvPicPr>
        <p:blipFill>
          <a:blip r:embed="rId1"/>
          <a:stretch/>
        </p:blipFill>
        <p:spPr>
          <a:xfrm>
            <a:off x="109440" y="274680"/>
            <a:ext cx="8906040" cy="1146240"/>
          </a:xfrm>
          <a:prstGeom prst="rect">
            <a:avLst/>
          </a:prstGeom>
          <a:ln w="0">
            <a:noFill/>
          </a:ln>
        </p:spPr>
      </p:pic>
      <p:sp>
        <p:nvSpPr>
          <p:cNvPr id="511" name="Symbol zastępczy numeru slajdu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A4FB-90C3-4C09-8FD5-43E3F6A62F96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24000" y="1341360"/>
            <a:ext cx="87120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Organizacja powinna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70000"/>
              </a:lnSpc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ustanowić  i utrzymywać procedurę dla identyfikowania i zapewnienia dostępu do wymagań prawnych i innych wymagań bhp, mających zastosowanie w organizacji w odniesieniu do ryzyk, szans i wymagań systemu bhp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70000"/>
              </a:lnSpc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określić jak te wymagania mają być stosowane w organizacji i co powinno być zakomunikowane;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70000"/>
              </a:lnSpc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uwzględnić te wymagania przy wdrażaniu, utrzymywaniu i doskonaleniu systemu bhp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Organizacja powinna utrzymywać i przechowywać </a:t>
            </a:r>
            <a:r>
              <a:rPr b="0" lang="pl-PL" sz="2500" spc="-1" strike="noStrike">
                <a:solidFill>
                  <a:srgbClr val="ff0000"/>
                </a:solidFill>
                <a:latin typeface="Lucida Sans Unicode"/>
              </a:rPr>
              <a:t>udokumentowane informacje </a:t>
            </a: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na temat wymagań prawnych i innych wymagań dot. Organizacji oraz zapewnić ich aktualność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F648-D3D1-4AC1-883A-E899901DDC7E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16" name="Symbol zastępczy daty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02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Cele bhp powinny być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26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mierzalne albo umożliwiające ocenę efektó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26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spójne z polityką bh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26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uwzględniać wymagania, ryzyka i szanse oraz wyniki konsultacji z pracownikam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26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monitorowa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26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komunikowa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26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aktualizowane w razie konieczności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2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102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Cele i plany ich osiągnięcia powinny być w postaci </a:t>
            </a:r>
            <a:r>
              <a:rPr b="0" lang="pl-PL" sz="2400" spc="-1" strike="noStrike">
                <a:solidFill>
                  <a:srgbClr val="ff0000"/>
                </a:solidFill>
                <a:latin typeface="Lucida Sans Unicode"/>
              </a:rPr>
              <a:t>udokumentowanej informacji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2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8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19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8F47-3A4E-4343-A0E3-59975D0914EC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Symbol zastępczy stopki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Wioletta Kure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Symbol zastępczy numeru slajdu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FA0C-DF77-43A0-B41A-5C6B1F522A74}" type="slidenum">
              <a:rPr b="0" lang="pl-PL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7200" y="-36360"/>
            <a:ext cx="8229600" cy="1457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Lucida Sans Unicode"/>
              </a:rPr>
              <a:t>1987 – Jednolity Akt Europejski: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 Redukcja wysokich kosztów społecznych i ekonomicznych, powstających z zaniedbania zdrowia i bezpieczeństwa pracownikó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Wytyczne Międzynarodowej Organizacji Pracy ILO-OSH w sprawie bezpieczeństwa i higieny prac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Przy planowaniu celów należy określić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Co ma być zrobio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Jakie zasoby będą potrzeb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Kto  jest odpowiedzialny za realizację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Kiedy mają być zrealizowa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W jaki sposób będą oceniane wyniki, w tym wskaźniki monitorowan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W jaki sposób będą podejmowane działania, aby osiągnąć cele bh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2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23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1B8C-6F08-40AD-9B92-279142F80F12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Lucida Sans Unicode"/>
              </a:rPr>
              <a:t>Zasoby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527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FD15-03AB-4C6F-B99B-F7CB6C613FFC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Należy określić kompetencje pracowników, którzy mają lub mogą mieć wpływ naefekty działania w zakresie bh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Zapewnić, że pracownicy są kompetentni na podstawie wykształcenia, szkolenia lub doświadczen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Tam, gdzie to konieczne, zapewnić działania w celu zdobycia niezbędnych kompetencj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Przechowywać </a:t>
            </a:r>
            <a:r>
              <a:rPr b="0" lang="pl-PL" sz="2700" spc="-1" strike="noStrike">
                <a:solidFill>
                  <a:srgbClr val="ff0000"/>
                </a:solidFill>
                <a:latin typeface="Lucida Sans Unicode"/>
              </a:rPr>
              <a:t>udokumentowane informacje 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jako dowód kompetencj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0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31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6384-BE6C-4EDD-9DD5-541FA21C98A1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250920" y="1267920"/>
            <a:ext cx="864216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Pracownicy powinni być świadomi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Polityki i celów bh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Wkładu w skuteczność systemu, w tym korzyści z systemu zarządzania bh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Obecnych i potencjalnych konsekwencji z niezgodności z wymaganiami bh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Zagrożeń i ryzyk dot. Bhp i wynikających z nich działań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Możliwości powstrzymania się od wykonywania pracy lub oddalenia się w przypadku bezpośredniego zagrożenia ich zdrowia lub życ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4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35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F974-E19C-4BFA-A8B2-9CBB0568755C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Organizacja powinna ustanowić, wdrożyć i utrzymywać procesy niezbędne dla wewnętrznego i zewnętrznego komunikowania związanego z systemem zarządzania BHP, w tym określeni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co będzie się komunikować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kiedy komunikować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z kim komunikowa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jak się komunikowa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38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39" name="Symbol zastępczy numeru slajdu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1FFD-9E08-4762-907D-E4E263F2379A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System bhp powinien zawierać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Udokumentowane informacje wymagane przez niniejszą normę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Udokumentowane informacje określone przez organizację jako niezbędne dla skutecznego funkcjonowania </a:t>
            </a:r>
            <a:r>
              <a:rPr b="0" i="1" lang="pl-PL" sz="2700" spc="-1" strike="noStrike">
                <a:solidFill>
                  <a:srgbClr val="ff0000"/>
                </a:solidFill>
                <a:latin typeface="Lucida Sans Unicode"/>
              </a:rPr>
              <a:t>(patrz wymagania prawn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42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43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EC32-B84D-43F2-B04B-43D06FAE0DEC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Opracowując i aktualizując udokumentowane informacje organizacja powinna zapewnić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Lucida Sans Unicod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identyfikacje i opis (np. tytuł, datę, autora, lub numer referencyjny)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Lucida Sans Unicod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format (np. język, wersję oprogramowania, grafikę) oraz nośnik (np. papier, wersja elektroniczna)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Lucida Sans Unicod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przegląd oraz zatwierdzenie przydatności i adekwatności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46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47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A11B-8A1F-442C-9A4F-F5DAF2EBB962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Udokumentowane informacje wymagane przez system zarządzania bhp i niniejszą normę, powinny być nadzorowane w celu zapewnieni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dostępności i przydatności do użytku, wtedy gdy jest to konieczne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odpowiedniego zabezpieczenia (np. przed utratą poufności, niewłaściwego użytkowania lub utracie integralności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50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51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BEB4-F4A7-4275-882F-62343092609D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Lucida Sans Unicode"/>
              </a:rPr>
              <a:t>Działania operacyjn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555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DEAA-463F-4494-91B6-759285EFF394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216000" y="1125360"/>
            <a:ext cx="8712000" cy="528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Organizacja planuje, wdraża, nadzoruje i utrzymuje procesy niezbędne do spełnienia wymagań systemu BHP i realizacji działań określonych poprzez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ustalanie kryteriów dla procesów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wdrażanie kontroli procesów zgodnie z kryteriam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Lucida Sans Unicode"/>
              </a:rPr>
              <a:t>utrzymywanie i przechowywanie udokumentowanych informacji w zakresie niezbędnym do uzyskania zaufania, że procesy zostały przeprowadzone zgodnie z planem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dostosowywanie pracy do pracowników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W miejscach, gdzie działania prowadzą różni pracodawcy, należy koordynować odpowiednie części systemu zarządzania BHP z innymi organizacjam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58" name="Tytuł 2" descr=""/>
          <p:cNvPicPr/>
          <p:nvPr/>
        </p:nvPicPr>
        <p:blipFill>
          <a:blip r:embed="rId1"/>
          <a:stretch/>
        </p:blipFill>
        <p:spPr>
          <a:xfrm>
            <a:off x="212760" y="225360"/>
            <a:ext cx="8718480" cy="1060560"/>
          </a:xfrm>
          <a:prstGeom prst="rect">
            <a:avLst/>
          </a:prstGeom>
          <a:ln w="0">
            <a:noFill/>
          </a:ln>
        </p:spPr>
      </p:pic>
      <p:sp>
        <p:nvSpPr>
          <p:cNvPr id="559" name="Symbol zastępczy numeru slajdu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0735-0D48-4817-BC15-348044F85387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Lucida Sans Unicode"/>
              </a:rPr>
              <a:t>BS 8800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Lucida Sans Unicode"/>
              </a:rPr>
              <a:t>OHSAS 18001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Lucida Sans Unicode"/>
              </a:rPr>
              <a:t>PN-N 18001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Tytuł 2" descr=""/>
          <p:cNvPicPr/>
          <p:nvPr/>
        </p:nvPicPr>
        <p:blipFill>
          <a:blip r:embed="rId1"/>
          <a:stretch/>
        </p:blipFill>
        <p:spPr>
          <a:xfrm>
            <a:off x="324000" y="274680"/>
            <a:ext cx="8570880" cy="1146240"/>
          </a:xfrm>
          <a:prstGeom prst="rect">
            <a:avLst/>
          </a:prstGeom>
          <a:ln w="0">
            <a:noFill/>
          </a:ln>
        </p:spPr>
      </p:pic>
      <p:sp>
        <p:nvSpPr>
          <p:cNvPr id="423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Symbol zastępczy stopki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ISO 45001 W.Kurek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Symbol zastępczy numeru slajdu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E2EE-5192-482E-A672-72D7DC18898F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Organizacja powinna stosować działania wg następujących kryteriów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Eliminowanie zagrożen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Zastępowanie mniej niebezpiecznymi procesami, działaniami, materiałam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Stosowanie technicznych i organizacyjnych środków ograniczających ryzyk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Stosowanie administracyjnych środków ograniczających ryzyko, w tym szkoleń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Stosowanie środków ochrony indywidualnej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2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63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7724-8E23-47FD-AC24-2BB6DA3A63AB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Organizacja powinna ustalić zasady związane z nadzorem nad zmianami tymczasowymi oraz stałymi które wpływają na efekty działania w zakresie bh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6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67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E738-AA16-4D4D-9734-36DA64D20BA1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Organizacja powinna ustalić zasady zakupu wyrobów i usług, aby zapewnić zgodność z wymaganiami bh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0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71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7427-7815-40BF-AB7C-206295B64357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221760" y="980640"/>
            <a:ext cx="879156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Organizacja powinna koordynować swoje działania z kontrahentami w celu zidentyfikowania zagrożeń oraz oceny i kontroli ryzyk związanych z BHP, wynikających z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działalności wykonawców i operacji, które mają wpływ na organizację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działań i operacji organizacji, które mają wpływ na pracowników wykonawców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działalności wykonawców i operacji, które mają wpływ na inne zainteresowane strony w miejscu pracy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Organizacja powinna zapewnić spełnienie wymagań swojego systemu zarządzania BHP w odniesieniu do kontrahentów i ich pracowników. Procesy zakupów organizacji powinny zawierać kryteria bezpieczeństwa i higieny pracy do wyboru wykonawców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4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706320"/>
          </a:xfrm>
          <a:prstGeom prst="rect">
            <a:avLst/>
          </a:prstGeom>
          <a:ln w="0">
            <a:noFill/>
          </a:ln>
        </p:spPr>
      </p:pic>
      <p:sp>
        <p:nvSpPr>
          <p:cNvPr id="575" name="Symbol zastępczy numeru slajdu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248F-1A07-4B20-936E-9CF14CAE1D64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Procesy zlecane na zewnątrz powinny być nadzorowane. Nadzór ma być spójny z wymaganiami prawnymi i innymi oraz wymaganiami systemu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Rodzaj i zakres nadzoru należy określić w systemie bh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8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79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2D08-00F6-4279-9077-6B7B7F88BA9A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457200" y="1481040"/>
            <a:ext cx="82296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Organizacja ustanawia, wdraża i utrzymuje procesy niezbędne do przygotowania i reagowania na potencjalne sytuacje awaryjne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ustalenie planowanej reakcji na sytuacje awaryjne, w tym udzielanie pierwszej pomocy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zapewnienie szkolenia w zakresie planowanej reakcj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okresowe testowanie i realizacja planowanej zdolności reagowania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ocena wydajności i, jeśli to konieczne, rewizja planowanej reakcji, w tym po testach w szczególności po wystąpieniu sytuacji awaryjnych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2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83" name="Symbol zastępczy numeru slajdu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03BE-C091-4669-AB0B-10694D4E68D5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324000" y="1481040"/>
            <a:ext cx="86896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przekazywanie i dostarczanie istotnych informacji wszystkim pracownikom w zakresie ich obowiązków i obowiązk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przekazywanie istotnych informacji kontrahentom, odwiedzającym, służbom ratowniczym, władze rządowe i, w razie potrzeby, społeczność lokalna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uwzględniając potrzeby i możliwości wszystkich odpowiednich zainteresowanych stron i zapewniając ich zaangażowanie, w razie potrzeby, w opracowanie planowanej reakcji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Organizacja powinna przechowywać i przechowywać </a:t>
            </a:r>
            <a:r>
              <a:rPr b="0" lang="pl-PL" sz="2400" spc="-1" strike="noStrike">
                <a:solidFill>
                  <a:srgbClr val="ff0000"/>
                </a:solidFill>
                <a:latin typeface="Lucida Sans Unicode"/>
              </a:rPr>
              <a:t>udokumentowane informacje 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dotyczące ww procesu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6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87" name="Symbol zastępczy numeru slajdu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31C5-8FDC-4CAD-B0CB-2D470B919823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Symbol zastępczy daty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33cc"/>
                </a:solidFill>
                <a:latin typeface="Lucida Sans Unicode"/>
              </a:rPr>
              <a:t>Ocena efektów działania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4100" spc="-1" strike="noStrike">
              <a:solidFill>
                <a:srgbClr val="002a50"/>
              </a:solidFill>
              <a:latin typeface="Lucida Sans Unicode"/>
            </a:endParaRPr>
          </a:p>
        </p:txBody>
      </p:sp>
      <p:sp>
        <p:nvSpPr>
          <p:cNvPr id="591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AE49-0FB8-4D8D-8BFA-81717B560648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250560" y="1481040"/>
            <a:ext cx="85690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06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Organizacja określ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Co należy monitorować i mierzy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Metody monitorowania, pomiarów i analiz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Kryteria ocen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Kiedy należy monitorować i mierzy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Kiedy należy analizować, oceniać i komunikować wyniki monitorowan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Należy przechowywać </a:t>
            </a:r>
            <a:r>
              <a:rPr b="0" lang="pl-PL" sz="2400" spc="-1" strike="noStrike">
                <a:solidFill>
                  <a:srgbClr val="ff0000"/>
                </a:solidFill>
                <a:latin typeface="Lucida Sans Unicode"/>
              </a:rPr>
              <a:t>udokumentowane informacje 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dot. wyników monitorowania i pomiarów oraz dot. wzorcowania lub sprawdzania wyposażeni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94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95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5ADA-F4F5-4233-A6EE-765AC02ABCCD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250560" y="1413000"/>
            <a:ext cx="843588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Organizacja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określa częstotliwość i metodę (metody) oceny zgodnośc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ocenić zgodność i podjąć działania w razie potrzeb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utrzymywać wiedzę i rozumieć jej status zgodności z wymaganiami prawnymi i innymi wymaganiami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Należy przechowywać </a:t>
            </a:r>
            <a:r>
              <a:rPr b="0" lang="pl-PL" sz="2400" spc="-1" strike="noStrike">
                <a:solidFill>
                  <a:srgbClr val="ff0000"/>
                </a:solidFill>
                <a:latin typeface="Lucida Sans Unicode"/>
              </a:rPr>
              <a:t>udokumentowane informacje 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dotyczące wyników oceny zgodności</a:t>
            </a:r>
            <a:r>
              <a:rPr b="0" i="1" lang="pl-PL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364F-74E7-435F-9887-894433239219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600" name="Symbol zastępczy daty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Symbol zastępczy stopki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Wioletta Kure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Symbol zastępczy numeru slajdu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321F-C583-4404-8C03-2E4B3608172E}" type="slidenum">
              <a:rPr b="0" lang="pl-PL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457200" y="281160"/>
            <a:ext cx="8437680" cy="11998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394920" y="1484280"/>
            <a:ext cx="85122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Lucida Sans Unicode"/>
              </a:rPr>
              <a:t>ISO 45001</a:t>
            </a:r>
            <a:r>
              <a:rPr b="1" lang="de-DE" sz="3200" spc="-1" strike="noStrike">
                <a:solidFill>
                  <a:srgbClr val="ff0000"/>
                </a:solidFill>
                <a:latin typeface="Lucida Sans Unicode"/>
              </a:rPr>
              <a:t>  2018</a:t>
            </a:r>
            <a:r>
              <a:rPr b="1" lang="pl-PL" sz="32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1" i="1" lang="pl-PL" sz="32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0" lang="pl-PL" sz="3200" spc="-1" strike="noStrike">
                <a:solidFill>
                  <a:srgbClr val="000000"/>
                </a:solidFill>
                <a:latin typeface="Lucida Sans Unicode"/>
              </a:rPr>
              <a:t>Systemy zarządzania bezpieczeństwem i higieną pracy. </a:t>
            </a:r>
            <a:r>
              <a:rPr b="0" lang="pl-PL" sz="3200" spc="-1" strike="noStrike" u="sng">
                <a:solidFill>
                  <a:srgbClr val="000000"/>
                </a:solidFill>
                <a:uFillTx/>
                <a:latin typeface="Lucida Sans Unicode"/>
              </a:rPr>
              <a:t>Wymagania i wytyczne stosowani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a6a6a6"/>
                </a:solidFill>
                <a:latin typeface="Lucida Sans Unicode"/>
              </a:rPr>
              <a:t>PN-N 18001:2004 </a:t>
            </a:r>
            <a:r>
              <a:rPr b="0" lang="pl-PL" sz="2400" spc="-1" strike="noStrike">
                <a:solidFill>
                  <a:srgbClr val="a6a6a6"/>
                </a:solidFill>
                <a:latin typeface="Lucida Sans Unicode"/>
              </a:rPr>
              <a:t>Systemy zarządzania bezpieczeństwem i higieną pracy. </a:t>
            </a:r>
            <a:r>
              <a:rPr b="0" lang="pl-PL" sz="2400" spc="-1" strike="noStrike" u="sng">
                <a:solidFill>
                  <a:srgbClr val="a6a6a6"/>
                </a:solidFill>
                <a:uFillTx/>
                <a:latin typeface="Lucida Sans Unicode"/>
              </a:rPr>
              <a:t>Wymagani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a6a6a6"/>
                </a:solidFill>
                <a:latin typeface="Lucida Sans Unicode"/>
              </a:rPr>
              <a:t>OHSAS 18001:2007 </a:t>
            </a:r>
            <a:r>
              <a:rPr b="0" lang="pl-PL" sz="2400" spc="-1" strike="noStrike">
                <a:solidFill>
                  <a:srgbClr val="a6a6a6"/>
                </a:solidFill>
                <a:latin typeface="Lucida Sans Unicode"/>
              </a:rPr>
              <a:t>Systemy zarządzania bezpieczeństwem i higieną pracy. </a:t>
            </a:r>
            <a:r>
              <a:rPr b="0" lang="pl-PL" sz="2400" spc="-1" strike="noStrike" u="sng">
                <a:solidFill>
                  <a:srgbClr val="a6a6a6"/>
                </a:solidFill>
                <a:uFillTx/>
                <a:latin typeface="Lucida Sans Unicode"/>
              </a:rPr>
              <a:t>Wymagania</a:t>
            </a:r>
            <a:br>
              <a:rPr sz="2400"/>
            </a:br>
            <a:r>
              <a:rPr b="0" lang="pl-PL" sz="2400" spc="-1" strike="noStrike" u="sng">
                <a:solidFill>
                  <a:srgbClr val="a6a6a6"/>
                </a:solidFill>
                <a:uFillTx/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spcAft>
                <a:spcPts val="349"/>
              </a:spcAft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Lucida Sans Unicode"/>
              </a:rPr>
              <a:t>PN-N 18002:2011</a:t>
            </a:r>
            <a:r>
              <a:rPr b="0" lang="pl-PL" sz="2800" spc="-1" strike="noStrike">
                <a:solidFill>
                  <a:srgbClr val="000000"/>
                </a:solidFill>
                <a:latin typeface="Lucida Sans Unicode"/>
              </a:rPr>
              <a:t> Systemy zarządzania bezpieczeństwem i higieną pracy. Ogólne wytyczne do oceny ryzyka zawodoweg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250560" y="14810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Organizacja powinna przeprowadzać audity wewnętrzne w zaplanowanych odstępach czasu w celu określenia, czy system zarządzania bhp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jest zgodny z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66f61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własnymi wymaganiami organizacji dla systemu zarządzania bhp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66f61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wymaganiami niniejszej normy międzynarodowej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jest skutecznie wdrożony i utrzymywan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02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603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6C3B-C90D-4A28-BF13-BE9B6525B798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108000" y="1052640"/>
            <a:ext cx="857880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cja powinna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planować, ustanowić, wdrożyć i utrzymywać program auditu, w tym częstotliwość, metody, odpowiedzialność, konsultacje, wymagania planowania i raportowania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określić kryteria i zakres dla każdego auditu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wybierać auditorów i prowadzić audity tak aby zapewnić obiektywność i bezstronność procesu auditu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zapewnić, że wyniki auditów są przekazywane do właściwego kierownictwa; do pracowników, czy przedstawicieli pracowników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podjąć działania w celu wyeliminowania niezgodności i ciągłej popraw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Przechowywać </a:t>
            </a:r>
            <a:r>
              <a:rPr b="0" lang="pl-PL" sz="2400" spc="-1" strike="noStrike">
                <a:solidFill>
                  <a:srgbClr val="ff0000"/>
                </a:solidFill>
                <a:latin typeface="Arial"/>
                <a:ea typeface="Arial"/>
              </a:rPr>
              <a:t>udokumentowane informacje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jako dowód realizacji programu audytu i ich wyników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06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607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864B-DFD4-4448-8CE2-C4A4D633AC99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179280" y="119664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Najwyższe kierownictwo powinno przeprowadzać przegląd zarządzania w ustalonych odstępach czasu, dla zapewnienia przydatności, skuteczności i adekwatności. Powinien obejmować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status działań z poprzednich przeglądów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zmiany czynników wewnętrznych i zewnętrznych mających wpływ na system bhp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Stopień realizacji polityki i celów bhp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Informacji o efektach działania w zakresie bhp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Adekwatności zasobów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Szans ciągłego doskonaleni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Odpowiedniej komunikacji ze stronami zainteresowanym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10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611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C8E8-2098-4F54-A427-E8E5BFC39FCE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Odpowiednie dane wyjściowe z przeglądu zarządzania powinny być zakomunikowane pracownikom oraz tam, gdzie występują przedstawicielom pracowników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Należy przechowywać </a:t>
            </a:r>
            <a:r>
              <a:rPr b="0" lang="pl-PL" sz="2700" spc="-1" strike="noStrike">
                <a:solidFill>
                  <a:srgbClr val="ff0000"/>
                </a:solidFill>
                <a:latin typeface="Lucida Sans Unicode"/>
              </a:rPr>
              <a:t>udokumentowane informacje 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jako dowód wyników przeglądu zarządzan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14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615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F9EE-8DB9-44E9-AF75-29DFB0AB796F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108000" y="1481040"/>
            <a:ext cx="87120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W przypadku wystąpienia incydentu lub niezgodności, organizacja powinn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zareagować w odpowiednim czasie na incydent lub niezgodność i jeżeli ma to zastosowanie, podjąć działania mające na celu nadzorowanie i skorygowanie oraz zajęcie się następstwami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przy współudziale pracowników ocenić potrzebę podjęcia działań w celu wyeliminowania pierwotnej przyczyny niezgodności, tak aby się one nie powtórzyły lub wystąpiły w innym miejscu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Arial"/>
                <a:ea typeface="Arial"/>
              </a:rPr>
              <a:t>dokonać przeglądu istniejących ryzyk dot. bhp;…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18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619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6CC1-5F2D-4C54-8FEF-1E70F43ED6B7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179280" y="1481040"/>
            <a:ext cx="88344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określić i wdrożyć wszystkie niezbędne działania, w tym działania korygujące zgodnie z hierarchią środków ograniczających ryzyko i zarządzaniem zmianą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ocenić przed podjęciem działań ryzyka związane z nowymi lub zmienionymi zagrożeniam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dokonać oceny skuteczności podjętych działań, w tym działań korygujących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wprowadzić zmiany w systemie zarządzania, jeśli okaże się to konieczn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Należy przechowywać </a:t>
            </a:r>
            <a:r>
              <a:rPr b="0" lang="pl-PL" sz="2400" spc="-1" strike="noStrike">
                <a:solidFill>
                  <a:srgbClr val="ff0000"/>
                </a:solidFill>
                <a:latin typeface="Lucida Sans Unicode"/>
              </a:rPr>
              <a:t>udokumentowane informacje 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dot. niezgodności i działań korygujących oraz przekazywać je odpowiednim pracownikom i przedstawicielom oraz zainteresowanym stronom zewnętrznym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22" name="Tytuł 2" descr=""/>
          <p:cNvPicPr/>
          <p:nvPr/>
        </p:nvPicPr>
        <p:blipFill>
          <a:blip r:embed="rId1"/>
          <a:stretch/>
        </p:blipFill>
        <p:spPr>
          <a:xfrm>
            <a:off x="176040" y="274680"/>
            <a:ext cx="8510760" cy="1146240"/>
          </a:xfrm>
          <a:prstGeom prst="rect">
            <a:avLst/>
          </a:prstGeom>
          <a:ln w="0">
            <a:noFill/>
          </a:ln>
        </p:spPr>
      </p:pic>
      <p:sp>
        <p:nvSpPr>
          <p:cNvPr id="623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1E64-92AA-4852-A562-28EABF0A2418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250560" y="1052640"/>
            <a:ext cx="856908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Organizacja powinna ciągle doskonalić przydatność, adekwatność i skuteczność systemu zarządzania bhp poprzez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poprawę efektów działania w zakresie bhp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promowanie kultury wspierającej system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promowanie współudziału pracowników na rzecz ciągłego doskonaleni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komunikowanie odpowiednich wyników pracownikom i przedstawicielom pracowników na rzecz ciągłego doskonaleni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Należy utrzymywać i przechowywać </a:t>
            </a:r>
            <a:r>
              <a:rPr b="0" lang="pl-PL" sz="2500" spc="-1" strike="noStrike">
                <a:solidFill>
                  <a:srgbClr val="ff0000"/>
                </a:solidFill>
                <a:latin typeface="Lucida Sans Unicode"/>
              </a:rPr>
              <a:t>udokumentowane informacje </a:t>
            </a:r>
            <a:r>
              <a:rPr b="0" lang="pl-PL" sz="2500" spc="-1" strike="noStrike">
                <a:solidFill>
                  <a:srgbClr val="000000"/>
                </a:solidFill>
                <a:latin typeface="Lucida Sans Unicode"/>
              </a:rPr>
              <a:t>jako dowód ciągłego doskonaleni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66f616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26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52480"/>
          </a:xfrm>
          <a:prstGeom prst="rect">
            <a:avLst/>
          </a:prstGeom>
          <a:ln w="0">
            <a:noFill/>
          </a:ln>
        </p:spPr>
      </p:pic>
      <p:sp>
        <p:nvSpPr>
          <p:cNvPr id="627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D238-124E-435F-A392-DE71553CABA0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0" name="Symbol zastępczy numeru slajdu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FE0D-67A6-442F-BC9F-2D879140F977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4100" spc="-1" strike="noStrike">
              <a:solidFill>
                <a:srgbClr val="002c78"/>
              </a:solidFill>
              <a:latin typeface="Lucida Sans Unicode"/>
            </a:endParaRPr>
          </a:p>
        </p:txBody>
      </p:sp>
      <p:sp>
        <p:nvSpPr>
          <p:cNvPr id="632" name="WordArt 4"/>
          <p:cNvSpPr txBox="1"/>
          <p:nvPr/>
        </p:nvSpPr>
        <p:spPr>
          <a:xfrm>
            <a:off x="684360" y="2133720"/>
            <a:ext cx="7488000" cy="33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2a50"/>
                </a:solidFill>
                <a:latin typeface="Times New Roman"/>
              </a:rPr>
              <a:t>Dziękuję za uwagę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2a50"/>
              </a:solidFill>
              <a:latin typeface="Times New Roman"/>
              <a:ea typeface="Times New Roman"/>
            </a:endParaRPr>
          </a:p>
        </p:txBody>
      </p:sp>
      <p:sp>
        <p:nvSpPr>
          <p:cNvPr id="633" name="Symbol zastępczy daty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źródło mogące spowodować uraz i dolegliwości zdrowotn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2" name="Symbol zastępczy numeru slajdu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2682-DCF8-4A79-9652-239C734F5607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Symbol zastępczy daty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Wpływ niepewnośc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Lucida Sans Unicode"/>
              </a:rPr>
              <a:t>Wpływ niepewności jest odchyleniem od oczekiwanego założenia - dodatniego lub ujemnego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Lucida Sans Unicode"/>
              </a:rPr>
              <a:t>Niepewność - stan, nawet częściowy, braku informacji związanych ze zrozumieniem  lub wiedzą na temat zdarzenia, jego skutków lub prawdopodobieństwa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36" name="Symbol zastępczy numeru slajdu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BC6C-EA08-4A1C-B5E8-645BC47A1F39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Symbol zastępczy daty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kombinacja prawdopodobieństwa wystąpienia niebezpiecznego zdarzenia związanego z pracą lub narażenia oraz ciężkości urazów i dolegliwości zdrowotnych, które mogą być spowodowane przez zdarzenie lub narażeni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9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40" name="Symbol zastępczy numeru slajdu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2A9F-3374-4F96-8859-58190CCDBCA5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Symbol zastępczy daty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Zdarzenie powstające w związku z pracą, które mogłoby powodować lub powoduje uraz i dolegliwości zdrowot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Lucida Sans Unicode"/>
              </a:rPr>
              <a:t>Zdarzenie, w którym występują obrażenia i dolegliwości zdrowotne, jest czasem określane jako "wypadek"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66f61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Lucida Sans Unicode"/>
              </a:rPr>
              <a:t>Incydent, który nie powoduje urazy ani dolegliwości zdrowotnych może być określany jako zdarzenie potencjalnie wypadkow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3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44" name="Symbol zastępczy numeru slajdu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A982-95B6-4831-9835-ED6B1C2FBEED}" type="slidenum">
              <a:rPr b="0" lang="pl-PL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Symbol zastępczy daty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4T19:05:58Z</dcterms:created>
  <dc:creator>MR</dc:creator>
  <dc:description/>
  <dc:language>en-US</dc:language>
  <cp:lastModifiedBy>Wioletta Kurek</cp:lastModifiedBy>
  <dcterms:modified xsi:type="dcterms:W3CDTF">2023-06-13T08:32:31Z</dcterms:modified>
  <cp:revision>240</cp:revision>
  <dc:subject/>
  <dc:title>OHSAS 18001:2007</dc:title>
</cp:coreProperties>
</file>